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38E-6EDB-4081-B509-3AE1AE0A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CF4-0C00-45A6-BF57-9E90AA65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76F-9735-4934-ADE0-9CBFA576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6D2-84E6-4CAB-A4F7-265D108C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738-D025-4E01-A945-262F4A34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A11-2545-4D28-AA94-3DF0918B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856-32C9-440A-82E1-4E343168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B15-038D-4588-A021-3F2BC46A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8C2-239F-41A0-97D8-5862F7E0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248-EA0C-44B9-A8C4-9482F366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EF7-5288-4DD7-A57C-4608CE45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DB9-5072-4C0F-BB81-705B926A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F54A-242D-41AF-A803-89A6C24E1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 - 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he following as a fraction, decimal &amp;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/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4160" y="2847960"/>
            <a:ext cx="419040" cy="233280"/>
          </a:xfrm>
          <a:custGeom>
            <a:avLst/>
            <a:gdLst/>
            <a:ahLst/>
            <a:rect l="l" t="t" r="r" b="b"/>
            <a:pathLst>
              <a:path w="1167" h="646">
                <a:moveTo>
                  <a:pt x="5705" y="8086"/>
                </a:moveTo>
                <a:cubicBezTo>
                  <a:pt x="5807" y="8061"/>
                  <a:pt x="5843" y="8055"/>
                  <a:pt x="5904" y="8111"/>
                </a:cubicBezTo>
              </a:path>
              <a:path w="1167" h="646">
                <a:moveTo>
                  <a:pt x="6871" y="8409"/>
                </a:moveTo>
                <a:cubicBezTo>
                  <a:pt x="6863" y="8425"/>
                  <a:pt x="6854" y="8442"/>
                  <a:pt x="6846" y="8458"/>
                </a:cubicBezTo>
              </a:path>
              <a:path w="1167" h="646">
                <a:moveTo>
                  <a:pt x="5705" y="8458"/>
                </a:moveTo>
                <a:cubicBezTo>
                  <a:pt x="5718" y="8422"/>
                  <a:pt x="5804" y="8420"/>
                  <a:pt x="5854" y="8409"/>
                </a:cubicBezTo>
                <a:cubicBezTo>
                  <a:pt x="5887" y="8409"/>
                  <a:pt x="5903" y="8409"/>
                  <a:pt x="5928" y="8409"/>
                </a:cubicBezTo>
              </a:path>
              <a:path w="1167" h="646">
                <a:moveTo>
                  <a:pt x="6375" y="7962"/>
                </a:moveTo>
                <a:cubicBezTo>
                  <a:pt x="6252" y="7987"/>
                  <a:pt x="6216" y="8155"/>
                  <a:pt x="6176" y="8260"/>
                </a:cubicBezTo>
                <a:cubicBezTo>
                  <a:pt x="6133" y="8392"/>
                  <a:pt x="6112" y="8424"/>
                  <a:pt x="6152" y="8508"/>
                </a:cubicBezTo>
                <a:cubicBezTo>
                  <a:pt x="6307" y="8587"/>
                  <a:pt x="6459" y="8493"/>
                  <a:pt x="6524" y="8310"/>
                </a:cubicBezTo>
                <a:cubicBezTo>
                  <a:pt x="6588" y="8129"/>
                  <a:pt x="6554" y="8011"/>
                  <a:pt x="6400" y="7938"/>
                </a:cubicBezTo>
                <a:cubicBezTo>
                  <a:pt x="6383" y="7930"/>
                  <a:pt x="6367" y="7921"/>
                  <a:pt x="6350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43120" y="2759040"/>
            <a:ext cx="714600" cy="295200"/>
          </a:xfrm>
          <a:custGeom>
            <a:avLst/>
            <a:gdLst/>
            <a:ahLst/>
            <a:rect l="l" t="t" r="r" b="b"/>
            <a:pathLst>
              <a:path w="1986" h="819">
                <a:moveTo>
                  <a:pt x="7491" y="7863"/>
                </a:moveTo>
                <a:cubicBezTo>
                  <a:pt x="7758" y="7766"/>
                  <a:pt x="7813" y="7996"/>
                  <a:pt x="7689" y="8235"/>
                </a:cubicBezTo>
                <a:cubicBezTo>
                  <a:pt x="7578" y="8449"/>
                  <a:pt x="7494" y="8474"/>
                  <a:pt x="7342" y="8409"/>
                </a:cubicBezTo>
                <a:cubicBezTo>
                  <a:pt x="7454" y="8241"/>
                  <a:pt x="7625" y="8112"/>
                  <a:pt x="7838" y="8285"/>
                </a:cubicBezTo>
                <a:cubicBezTo>
                  <a:pt x="7857" y="8342"/>
                  <a:pt x="7866" y="8349"/>
                  <a:pt x="7863" y="8384"/>
                </a:cubicBezTo>
              </a:path>
              <a:path w="1986" h="819">
                <a:moveTo>
                  <a:pt x="8483" y="7689"/>
                </a:moveTo>
                <a:cubicBezTo>
                  <a:pt x="8411" y="7666"/>
                  <a:pt x="8332" y="7650"/>
                  <a:pt x="8260" y="7689"/>
                </a:cubicBezTo>
                <a:cubicBezTo>
                  <a:pt x="8205" y="7719"/>
                  <a:pt x="8195" y="7856"/>
                  <a:pt x="8186" y="7913"/>
                </a:cubicBezTo>
                <a:cubicBezTo>
                  <a:pt x="8314" y="7841"/>
                  <a:pt x="8491" y="7742"/>
                  <a:pt x="8632" y="7863"/>
                </a:cubicBezTo>
                <a:cubicBezTo>
                  <a:pt x="8927" y="8116"/>
                  <a:pt x="8280" y="8287"/>
                  <a:pt x="8186" y="8310"/>
                </a:cubicBezTo>
              </a:path>
              <a:path w="1986" h="819">
                <a:moveTo>
                  <a:pt x="9004" y="7913"/>
                </a:moveTo>
                <a:cubicBezTo>
                  <a:pt x="9074" y="7913"/>
                  <a:pt x="9161" y="7925"/>
                  <a:pt x="9227" y="7938"/>
                </a:cubicBezTo>
                <a:cubicBezTo>
                  <a:pt x="9252" y="7946"/>
                  <a:pt x="9277" y="7954"/>
                  <a:pt x="9302" y="7962"/>
                </a:cubicBezTo>
              </a:path>
              <a:path w="1986" h="819">
                <a:moveTo>
                  <a:pt x="9029" y="8186"/>
                </a:moveTo>
                <a:cubicBezTo>
                  <a:pt x="9147" y="8168"/>
                  <a:pt x="9214" y="8155"/>
                  <a:pt x="9327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37000" y="2678040"/>
            <a:ext cx="838080" cy="30492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10071" y="7714"/>
                </a:moveTo>
                <a:cubicBezTo>
                  <a:pt x="10279" y="7823"/>
                  <a:pt x="10421" y="8012"/>
                  <a:pt x="10145" y="8210"/>
                </a:cubicBezTo>
                <a:cubicBezTo>
                  <a:pt x="9974" y="8275"/>
                  <a:pt x="9938" y="8300"/>
                  <a:pt x="9823" y="8285"/>
                </a:cubicBezTo>
                <a:cubicBezTo>
                  <a:pt x="9882" y="8108"/>
                  <a:pt x="10054" y="8041"/>
                  <a:pt x="10244" y="8136"/>
                </a:cubicBezTo>
                <a:cubicBezTo>
                  <a:pt x="10300" y="8191"/>
                  <a:pt x="10325" y="8189"/>
                  <a:pt x="10319" y="8235"/>
                </a:cubicBezTo>
              </a:path>
              <a:path w="2332" h="845">
                <a:moveTo>
                  <a:pt x="10864" y="7640"/>
                </a:moveTo>
                <a:cubicBezTo>
                  <a:pt x="10807" y="7640"/>
                  <a:pt x="10649" y="7610"/>
                  <a:pt x="10616" y="7665"/>
                </a:cubicBezTo>
                <a:cubicBezTo>
                  <a:pt x="10582" y="7722"/>
                  <a:pt x="10574" y="7800"/>
                  <a:pt x="10567" y="7863"/>
                </a:cubicBezTo>
                <a:cubicBezTo>
                  <a:pt x="10668" y="7850"/>
                  <a:pt x="10910" y="7792"/>
                  <a:pt x="10964" y="7938"/>
                </a:cubicBezTo>
                <a:cubicBezTo>
                  <a:pt x="11031" y="8117"/>
                  <a:pt x="10626" y="8289"/>
                  <a:pt x="10542" y="8161"/>
                </a:cubicBezTo>
                <a:cubicBezTo>
                  <a:pt x="10542" y="8111"/>
                  <a:pt x="10542" y="8062"/>
                  <a:pt x="10542" y="8012"/>
                </a:cubicBezTo>
              </a:path>
              <a:path w="2332" h="845">
                <a:moveTo>
                  <a:pt x="11385" y="7565"/>
                </a:moveTo>
                <a:cubicBezTo>
                  <a:pt x="11294" y="7621"/>
                  <a:pt x="11304" y="7669"/>
                  <a:pt x="11336" y="7764"/>
                </a:cubicBezTo>
                <a:cubicBezTo>
                  <a:pt x="11481" y="7649"/>
                  <a:pt x="11435" y="7602"/>
                  <a:pt x="11460" y="7491"/>
                </a:cubicBezTo>
                <a:cubicBezTo>
                  <a:pt x="11468" y="7483"/>
                  <a:pt x="11477" y="7474"/>
                  <a:pt x="11485" y="7466"/>
                </a:cubicBezTo>
                <a:cubicBezTo>
                  <a:pt x="11675" y="7434"/>
                  <a:pt x="11921" y="7398"/>
                  <a:pt x="11857" y="7689"/>
                </a:cubicBezTo>
                <a:cubicBezTo>
                  <a:pt x="11812" y="7893"/>
                  <a:pt x="11668" y="8018"/>
                  <a:pt x="11534" y="8161"/>
                </a:cubicBezTo>
              </a:path>
              <a:path w="2332" h="845">
                <a:moveTo>
                  <a:pt x="11931" y="8062"/>
                </a:moveTo>
                <a:cubicBezTo>
                  <a:pt x="11923" y="8095"/>
                  <a:pt x="11914" y="8128"/>
                  <a:pt x="11906" y="8161"/>
                </a:cubicBezTo>
                <a:cubicBezTo>
                  <a:pt x="11963" y="8165"/>
                  <a:pt x="12310" y="8067"/>
                  <a:pt x="12129" y="7962"/>
                </a:cubicBezTo>
                <a:cubicBezTo>
                  <a:pt x="12080" y="7954"/>
                  <a:pt x="12030" y="7946"/>
                  <a:pt x="11981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30240" y="3848040"/>
            <a:ext cx="108000" cy="907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5159" y="10691"/>
                </a:moveTo>
                <a:cubicBezTo>
                  <a:pt x="5245" y="10705"/>
                  <a:pt x="5299" y="10716"/>
                  <a:pt x="5383" y="10716"/>
                </a:cubicBezTo>
              </a:path>
              <a:path w="299" h="249">
                <a:moveTo>
                  <a:pt x="5085" y="10939"/>
                </a:moveTo>
                <a:cubicBezTo>
                  <a:pt x="5176" y="10939"/>
                  <a:pt x="5267" y="10939"/>
                  <a:pt x="5358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3741840"/>
            <a:ext cx="534960" cy="312480"/>
          </a:xfrm>
          <a:custGeom>
            <a:avLst/>
            <a:gdLst/>
            <a:ahLst/>
            <a:rect l="l" t="t" r="r" b="b"/>
            <a:pathLst>
              <a:path w="1489" h="869">
                <a:moveTo>
                  <a:pt x="6375" y="10592"/>
                </a:moveTo>
                <a:cubicBezTo>
                  <a:pt x="6248" y="10718"/>
                  <a:pt x="6069" y="10960"/>
                  <a:pt x="6102" y="11162"/>
                </a:cubicBezTo>
                <a:cubicBezTo>
                  <a:pt x="6127" y="11195"/>
                  <a:pt x="6151" y="11228"/>
                  <a:pt x="6176" y="11261"/>
                </a:cubicBezTo>
                <a:cubicBezTo>
                  <a:pt x="6445" y="11215"/>
                  <a:pt x="6738" y="11139"/>
                  <a:pt x="6598" y="10790"/>
                </a:cubicBezTo>
                <a:cubicBezTo>
                  <a:pt x="6546" y="10659"/>
                  <a:pt x="6385" y="10551"/>
                  <a:pt x="6325" y="10691"/>
                </a:cubicBezTo>
              </a:path>
              <a:path w="1489" h="869">
                <a:moveTo>
                  <a:pt x="6995" y="11063"/>
                </a:moveTo>
                <a:cubicBezTo>
                  <a:pt x="6995" y="11096"/>
                  <a:pt x="6995" y="11112"/>
                  <a:pt x="6995" y="11137"/>
                </a:cubicBezTo>
              </a:path>
              <a:path w="1489" h="869">
                <a:moveTo>
                  <a:pt x="7268" y="10740"/>
                </a:moveTo>
                <a:cubicBezTo>
                  <a:pt x="7235" y="10848"/>
                  <a:pt x="7174" y="10930"/>
                  <a:pt x="7367" y="10939"/>
                </a:cubicBezTo>
                <a:cubicBezTo>
                  <a:pt x="7473" y="10944"/>
                  <a:pt x="7533" y="10906"/>
                  <a:pt x="7590" y="10840"/>
                </a:cubicBezTo>
              </a:path>
              <a:path w="1489" h="869">
                <a:moveTo>
                  <a:pt x="7565" y="10393"/>
                </a:moveTo>
                <a:cubicBezTo>
                  <a:pt x="7555" y="10634"/>
                  <a:pt x="7539" y="10873"/>
                  <a:pt x="7516" y="11112"/>
                </a:cubicBezTo>
                <a:cubicBezTo>
                  <a:pt x="7516" y="11120"/>
                  <a:pt x="7516" y="11129"/>
                  <a:pt x="7516" y="111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82960" y="3867120"/>
            <a:ext cx="125280" cy="71640"/>
          </a:xfrm>
          <a:custGeom>
            <a:avLst/>
            <a:gdLst/>
            <a:ahLst/>
            <a:rect l="l" t="t" r="r" b="b"/>
            <a:pathLst>
              <a:path w="348" h="200">
                <a:moveTo>
                  <a:pt x="8285" y="10740"/>
                </a:moveTo>
                <a:cubicBezTo>
                  <a:pt x="8392" y="10754"/>
                  <a:pt x="8494" y="10765"/>
                  <a:pt x="8607" y="10765"/>
                </a:cubicBezTo>
              </a:path>
              <a:path w="348" h="200">
                <a:moveTo>
                  <a:pt x="8384" y="10914"/>
                </a:moveTo>
                <a:cubicBezTo>
                  <a:pt x="8472" y="10931"/>
                  <a:pt x="8542" y="10939"/>
                  <a:pt x="8632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17920" y="3705120"/>
            <a:ext cx="733320" cy="287280"/>
          </a:xfrm>
          <a:custGeom>
            <a:avLst/>
            <a:gdLst/>
            <a:ahLst/>
            <a:rect l="l" t="t" r="r" b="b"/>
            <a:pathLst>
              <a:path w="2035" h="795">
                <a:moveTo>
                  <a:pt x="9847" y="10393"/>
                </a:moveTo>
                <a:cubicBezTo>
                  <a:pt x="9835" y="10442"/>
                  <a:pt x="9726" y="10664"/>
                  <a:pt x="9773" y="10716"/>
                </a:cubicBezTo>
                <a:cubicBezTo>
                  <a:pt x="9904" y="10860"/>
                  <a:pt x="10082" y="10700"/>
                  <a:pt x="10195" y="10641"/>
                </a:cubicBezTo>
              </a:path>
              <a:path w="2035" h="795">
                <a:moveTo>
                  <a:pt x="10170" y="10393"/>
                </a:moveTo>
                <a:cubicBezTo>
                  <a:pt x="10106" y="10625"/>
                  <a:pt x="10057" y="10864"/>
                  <a:pt x="9971" y="11088"/>
                </a:cubicBezTo>
              </a:path>
              <a:path w="2035" h="795">
                <a:moveTo>
                  <a:pt x="10468" y="10393"/>
                </a:moveTo>
                <a:cubicBezTo>
                  <a:pt x="10382" y="10580"/>
                  <a:pt x="10361" y="10685"/>
                  <a:pt x="10368" y="10889"/>
                </a:cubicBezTo>
                <a:cubicBezTo>
                  <a:pt x="10576" y="10966"/>
                  <a:pt x="10831" y="10912"/>
                  <a:pt x="10790" y="10592"/>
                </a:cubicBezTo>
                <a:cubicBezTo>
                  <a:pt x="10769" y="10426"/>
                  <a:pt x="10583" y="10444"/>
                  <a:pt x="10468" y="10393"/>
                </a:cubicBezTo>
              </a:path>
              <a:path w="2035" h="795">
                <a:moveTo>
                  <a:pt x="11038" y="10393"/>
                </a:moveTo>
                <a:cubicBezTo>
                  <a:pt x="11038" y="10482"/>
                  <a:pt x="11011" y="10459"/>
                  <a:pt x="11063" y="10542"/>
                </a:cubicBezTo>
                <a:cubicBezTo>
                  <a:pt x="11143" y="10471"/>
                  <a:pt x="11162" y="10430"/>
                  <a:pt x="11162" y="10319"/>
                </a:cubicBezTo>
                <a:cubicBezTo>
                  <a:pt x="11361" y="10276"/>
                  <a:pt x="11509" y="10342"/>
                  <a:pt x="11509" y="10592"/>
                </a:cubicBezTo>
                <a:cubicBezTo>
                  <a:pt x="11509" y="10776"/>
                  <a:pt x="11252" y="10900"/>
                  <a:pt x="11385" y="10939"/>
                </a:cubicBezTo>
              </a:path>
              <a:path w="2035" h="795">
                <a:moveTo>
                  <a:pt x="11683" y="10765"/>
                </a:moveTo>
                <a:cubicBezTo>
                  <a:pt x="11638" y="10855"/>
                  <a:pt x="11618" y="10877"/>
                  <a:pt x="11658" y="10939"/>
                </a:cubicBezTo>
                <a:cubicBezTo>
                  <a:pt x="11831" y="10925"/>
                  <a:pt x="11834" y="10901"/>
                  <a:pt x="11733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12960" y="4786200"/>
            <a:ext cx="108000" cy="71640"/>
          </a:xfrm>
          <a:custGeom>
            <a:avLst/>
            <a:gdLst/>
            <a:ahLst/>
            <a:rect l="l" t="t" r="r" b="b"/>
            <a:pathLst>
              <a:path w="299" h="200">
                <a:moveTo>
                  <a:pt x="5035" y="13320"/>
                </a:moveTo>
                <a:cubicBezTo>
                  <a:pt x="5129" y="13308"/>
                  <a:pt x="5213" y="13295"/>
                  <a:pt x="5308" y="13295"/>
                </a:cubicBezTo>
              </a:path>
              <a:path w="299" h="200">
                <a:moveTo>
                  <a:pt x="5035" y="13494"/>
                </a:moveTo>
                <a:cubicBezTo>
                  <a:pt x="5143" y="13489"/>
                  <a:pt x="5227" y="13482"/>
                  <a:pt x="5333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4705200"/>
            <a:ext cx="133200" cy="20664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6251" y="13097"/>
                </a:moveTo>
                <a:cubicBezTo>
                  <a:pt x="6110" y="13263"/>
                  <a:pt x="6106" y="13420"/>
                  <a:pt x="6127" y="13643"/>
                </a:cubicBezTo>
                <a:cubicBezTo>
                  <a:pt x="6362" y="13598"/>
                  <a:pt x="6561" y="13481"/>
                  <a:pt x="6424" y="13196"/>
                </a:cubicBezTo>
                <a:cubicBezTo>
                  <a:pt x="6345" y="13117"/>
                  <a:pt x="6337" y="13097"/>
                  <a:pt x="6276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82920" y="4589640"/>
            <a:ext cx="446040" cy="322200"/>
          </a:xfrm>
          <a:custGeom>
            <a:avLst/>
            <a:gdLst/>
            <a:ahLst/>
            <a:rect l="l" t="t" r="r" b="b"/>
            <a:pathLst>
              <a:path w="1241" h="894">
                <a:moveTo>
                  <a:pt x="6896" y="13593"/>
                </a:moveTo>
                <a:cubicBezTo>
                  <a:pt x="6904" y="13593"/>
                  <a:pt x="6913" y="13593"/>
                  <a:pt x="6921" y="13593"/>
                </a:cubicBezTo>
              </a:path>
              <a:path w="1241" h="894">
                <a:moveTo>
                  <a:pt x="7243" y="13122"/>
                </a:moveTo>
                <a:cubicBezTo>
                  <a:pt x="7201" y="13246"/>
                  <a:pt x="7101" y="13399"/>
                  <a:pt x="7119" y="13543"/>
                </a:cubicBezTo>
                <a:cubicBezTo>
                  <a:pt x="7136" y="13568"/>
                  <a:pt x="7152" y="13593"/>
                  <a:pt x="7169" y="13618"/>
                </a:cubicBezTo>
                <a:cubicBezTo>
                  <a:pt x="7288" y="13625"/>
                  <a:pt x="7566" y="13625"/>
                  <a:pt x="7541" y="13419"/>
                </a:cubicBezTo>
                <a:cubicBezTo>
                  <a:pt x="7524" y="13403"/>
                  <a:pt x="7508" y="13386"/>
                  <a:pt x="7491" y="13370"/>
                </a:cubicBezTo>
                <a:cubicBezTo>
                  <a:pt x="7432" y="13385"/>
                  <a:pt x="7207" y="13612"/>
                  <a:pt x="7342" y="13618"/>
                </a:cubicBezTo>
                <a:cubicBezTo>
                  <a:pt x="7375" y="13601"/>
                  <a:pt x="7408" y="13585"/>
                  <a:pt x="7441" y="13568"/>
                </a:cubicBezTo>
              </a:path>
              <a:path w="1241" h="894">
                <a:moveTo>
                  <a:pt x="7863" y="13047"/>
                </a:moveTo>
                <a:cubicBezTo>
                  <a:pt x="7839" y="13167"/>
                  <a:pt x="7800" y="13292"/>
                  <a:pt x="7789" y="13419"/>
                </a:cubicBezTo>
                <a:cubicBezTo>
                  <a:pt x="7789" y="13504"/>
                  <a:pt x="7782" y="13524"/>
                  <a:pt x="7813" y="13568"/>
                </a:cubicBezTo>
                <a:cubicBezTo>
                  <a:pt x="8002" y="13546"/>
                  <a:pt x="8055" y="13520"/>
                  <a:pt x="8136" y="13345"/>
                </a:cubicBezTo>
                <a:cubicBezTo>
                  <a:pt x="8002" y="13334"/>
                  <a:pt x="7898" y="13403"/>
                  <a:pt x="7888" y="13568"/>
                </a:cubicBezTo>
                <a:cubicBezTo>
                  <a:pt x="7928" y="13568"/>
                  <a:pt x="7947" y="13558"/>
                  <a:pt x="7962" y="13519"/>
                </a:cubicBezTo>
              </a:path>
              <a:path w="1241" h="894">
                <a:moveTo>
                  <a:pt x="7764" y="12774"/>
                </a:moveTo>
                <a:cubicBezTo>
                  <a:pt x="7858" y="12756"/>
                  <a:pt x="7936" y="12769"/>
                  <a:pt x="8037" y="12774"/>
                </a:cubicBezTo>
                <a:cubicBezTo>
                  <a:pt x="8045" y="12774"/>
                  <a:pt x="8054" y="12774"/>
                  <a:pt x="8062" y="127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52880" y="4680000"/>
            <a:ext cx="98280" cy="792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8756" y="13022"/>
                </a:moveTo>
                <a:cubicBezTo>
                  <a:pt x="8842" y="13003"/>
                  <a:pt x="8914" y="12998"/>
                  <a:pt x="9004" y="12998"/>
                </a:cubicBezTo>
              </a:path>
              <a:path w="274" h="224">
                <a:moveTo>
                  <a:pt x="8806" y="13221"/>
                </a:moveTo>
                <a:cubicBezTo>
                  <a:pt x="8931" y="13221"/>
                  <a:pt x="8959" y="13228"/>
                  <a:pt x="9029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98920" y="4626000"/>
            <a:ext cx="536400" cy="214200"/>
          </a:xfrm>
          <a:custGeom>
            <a:avLst/>
            <a:gdLst/>
            <a:ahLst/>
            <a:rect l="l" t="t" r="r" b="b"/>
            <a:pathLst>
              <a:path w="1490" h="596">
                <a:moveTo>
                  <a:pt x="10145" y="12849"/>
                </a:moveTo>
                <a:cubicBezTo>
                  <a:pt x="10084" y="13031"/>
                  <a:pt x="10014" y="13178"/>
                  <a:pt x="9996" y="13370"/>
                </a:cubicBezTo>
                <a:cubicBezTo>
                  <a:pt x="10176" y="13394"/>
                  <a:pt x="10330" y="13379"/>
                  <a:pt x="10418" y="13196"/>
                </a:cubicBezTo>
                <a:cubicBezTo>
                  <a:pt x="10418" y="13179"/>
                  <a:pt x="10418" y="13163"/>
                  <a:pt x="10418" y="13146"/>
                </a:cubicBezTo>
                <a:cubicBezTo>
                  <a:pt x="10330" y="13160"/>
                  <a:pt x="10137" y="13198"/>
                  <a:pt x="10195" y="13345"/>
                </a:cubicBezTo>
                <a:cubicBezTo>
                  <a:pt x="10211" y="13362"/>
                  <a:pt x="10228" y="13378"/>
                  <a:pt x="10244" y="13395"/>
                </a:cubicBezTo>
              </a:path>
              <a:path w="1490" h="596">
                <a:moveTo>
                  <a:pt x="10815" y="12874"/>
                </a:moveTo>
                <a:cubicBezTo>
                  <a:pt x="10793" y="13001"/>
                  <a:pt x="10729" y="13122"/>
                  <a:pt x="10691" y="13246"/>
                </a:cubicBezTo>
                <a:cubicBezTo>
                  <a:pt x="10683" y="13279"/>
                  <a:pt x="10674" y="13312"/>
                  <a:pt x="10666" y="13345"/>
                </a:cubicBezTo>
                <a:cubicBezTo>
                  <a:pt x="10830" y="13449"/>
                  <a:pt x="10976" y="13431"/>
                  <a:pt x="11112" y="13271"/>
                </a:cubicBezTo>
                <a:cubicBezTo>
                  <a:pt x="11157" y="13181"/>
                  <a:pt x="11177" y="13158"/>
                  <a:pt x="11137" y="13097"/>
                </a:cubicBezTo>
                <a:cubicBezTo>
                  <a:pt x="10992" y="13073"/>
                  <a:pt x="10927" y="13119"/>
                  <a:pt x="10864" y="13271"/>
                </a:cubicBezTo>
                <a:cubicBezTo>
                  <a:pt x="10799" y="13426"/>
                  <a:pt x="10836" y="13430"/>
                  <a:pt x="10939" y="13419"/>
                </a:cubicBezTo>
              </a:path>
              <a:path w="1490" h="596">
                <a:moveTo>
                  <a:pt x="11485" y="13271"/>
                </a:moveTo>
                <a:cubicBezTo>
                  <a:pt x="11428" y="13243"/>
                  <a:pt x="11436" y="13284"/>
                  <a:pt x="11410" y="13345"/>
                </a:cubicBezTo>
                <a:cubicBezTo>
                  <a:pt x="11466" y="13367"/>
                  <a:pt x="11532" y="13294"/>
                  <a:pt x="11485" y="13271"/>
                </a:cubicBezTo>
                <a:cubicBezTo>
                  <a:pt x="11468" y="13271"/>
                  <a:pt x="11452" y="13271"/>
                  <a:pt x="11435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76800" y="4589640"/>
            <a:ext cx="135000" cy="196560"/>
          </a:xfrm>
          <a:custGeom>
            <a:avLst/>
            <a:gdLst/>
            <a:ahLst/>
            <a:rect l="l" t="t" r="r" b="b"/>
            <a:pathLst>
              <a:path w="374" h="546">
                <a:moveTo>
                  <a:pt x="11906" y="12799"/>
                </a:moveTo>
                <a:cubicBezTo>
                  <a:pt x="11899" y="12829"/>
                  <a:pt x="11888" y="12844"/>
                  <a:pt x="11881" y="12874"/>
                </a:cubicBezTo>
                <a:cubicBezTo>
                  <a:pt x="11902" y="12748"/>
                  <a:pt x="11900" y="12791"/>
                  <a:pt x="12005" y="12774"/>
                </a:cubicBezTo>
                <a:cubicBezTo>
                  <a:pt x="12091" y="12760"/>
                  <a:pt x="12166" y="12750"/>
                  <a:pt x="12254" y="12750"/>
                </a:cubicBezTo>
                <a:cubicBezTo>
                  <a:pt x="12227" y="12937"/>
                  <a:pt x="12097" y="13083"/>
                  <a:pt x="12005" y="13246"/>
                </a:cubicBezTo>
                <a:cubicBezTo>
                  <a:pt x="11997" y="13262"/>
                  <a:pt x="11989" y="13279"/>
                  <a:pt x="11981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27720" y="4545000"/>
            <a:ext cx="250560" cy="241200"/>
          </a:xfrm>
          <a:custGeom>
            <a:avLst/>
            <a:gdLst/>
            <a:ahLst/>
            <a:rect l="l" t="t" r="r" b="b"/>
            <a:pathLst>
              <a:path w="696" h="670">
                <a:moveTo>
                  <a:pt x="12700" y="12725"/>
                </a:moveTo>
                <a:cubicBezTo>
                  <a:pt x="12633" y="12765"/>
                  <a:pt x="12590" y="12834"/>
                  <a:pt x="12601" y="12898"/>
                </a:cubicBezTo>
                <a:cubicBezTo>
                  <a:pt x="12750" y="12925"/>
                  <a:pt x="12749" y="12865"/>
                  <a:pt x="12700" y="12725"/>
                </a:cubicBezTo>
                <a:cubicBezTo>
                  <a:pt x="12662" y="12616"/>
                  <a:pt x="12814" y="12588"/>
                  <a:pt x="12898" y="12650"/>
                </a:cubicBezTo>
                <a:cubicBezTo>
                  <a:pt x="13084" y="12789"/>
                  <a:pt x="12998" y="13069"/>
                  <a:pt x="12874" y="13221"/>
                </a:cubicBezTo>
                <a:cubicBezTo>
                  <a:pt x="12837" y="13266"/>
                  <a:pt x="12756" y="13273"/>
                  <a:pt x="12824" y="13295"/>
                </a:cubicBezTo>
              </a:path>
              <a:path w="696" h="670">
                <a:moveTo>
                  <a:pt x="13171" y="13122"/>
                </a:moveTo>
                <a:cubicBezTo>
                  <a:pt x="13160" y="13177"/>
                  <a:pt x="13151" y="13211"/>
                  <a:pt x="13146" y="13271"/>
                </a:cubicBezTo>
                <a:cubicBezTo>
                  <a:pt x="13272" y="13258"/>
                  <a:pt x="13294" y="13219"/>
                  <a:pt x="13196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62680" y="4581360"/>
            <a:ext cx="179280" cy="106560"/>
          </a:xfrm>
          <a:custGeom>
            <a:avLst/>
            <a:gdLst/>
            <a:ahLst/>
            <a:rect l="l" t="t" r="r" b="b"/>
            <a:pathLst>
              <a:path w="497" h="298">
                <a:moveTo>
                  <a:pt x="14263" y="12799"/>
                </a:moveTo>
                <a:cubicBezTo>
                  <a:pt x="14269" y="12877"/>
                  <a:pt x="14310" y="12961"/>
                  <a:pt x="14263" y="13022"/>
                </a:cubicBezTo>
              </a:path>
              <a:path w="497" h="298">
                <a:moveTo>
                  <a:pt x="14064" y="12923"/>
                </a:moveTo>
                <a:cubicBezTo>
                  <a:pt x="14200" y="12923"/>
                  <a:pt x="14327" y="12908"/>
                  <a:pt x="14461" y="12898"/>
                </a:cubicBezTo>
              </a:path>
              <a:path w="497" h="298">
                <a:moveTo>
                  <a:pt x="14461" y="12750"/>
                </a:moveTo>
                <a:cubicBezTo>
                  <a:pt x="14408" y="12792"/>
                  <a:pt x="14282" y="12992"/>
                  <a:pt x="14213" y="12998"/>
                </a:cubicBezTo>
                <a:cubicBezTo>
                  <a:pt x="14205" y="12990"/>
                  <a:pt x="14196" y="12981"/>
                  <a:pt x="14188" y="12973"/>
                </a:cubicBezTo>
              </a:path>
              <a:path w="497" h="298">
                <a:moveTo>
                  <a:pt x="14064" y="12725"/>
                </a:moveTo>
                <a:cubicBezTo>
                  <a:pt x="14197" y="12782"/>
                  <a:pt x="14298" y="12911"/>
                  <a:pt x="14436" y="12973"/>
                </a:cubicBezTo>
                <a:cubicBezTo>
                  <a:pt x="14514" y="12992"/>
                  <a:pt x="14531" y="12984"/>
                  <a:pt x="14560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09480" y="9903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you know the sale price and the original price.  Can you find the % of dis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is what percent of 48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member is means =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7200" y="2901960"/>
            <a:ext cx="625680" cy="206280"/>
          </a:xfrm>
          <a:custGeom>
            <a:avLst/>
            <a:gdLst/>
            <a:ahLst/>
            <a:rect l="l" t="t" r="r" b="b"/>
            <a:pathLst>
              <a:path w="1737" h="571">
                <a:moveTo>
                  <a:pt x="8235" y="8458"/>
                </a:moveTo>
                <a:cubicBezTo>
                  <a:pt x="8386" y="8440"/>
                  <a:pt x="8528" y="8434"/>
                  <a:pt x="8682" y="8434"/>
                </a:cubicBezTo>
                <a:cubicBezTo>
                  <a:pt x="8707" y="8434"/>
                  <a:pt x="8731" y="8434"/>
                  <a:pt x="8756" y="8434"/>
                </a:cubicBezTo>
              </a:path>
              <a:path w="1737" h="571">
                <a:moveTo>
                  <a:pt x="8359" y="8607"/>
                </a:moveTo>
                <a:cubicBezTo>
                  <a:pt x="8478" y="8607"/>
                  <a:pt x="8589" y="8587"/>
                  <a:pt x="8706" y="8582"/>
                </a:cubicBezTo>
                <a:cubicBezTo>
                  <a:pt x="8748" y="8582"/>
                  <a:pt x="8764" y="8574"/>
                  <a:pt x="8756" y="8607"/>
                </a:cubicBezTo>
              </a:path>
              <a:path w="1737" h="571">
                <a:moveTo>
                  <a:pt x="7144" y="8062"/>
                </a:moveTo>
                <a:cubicBezTo>
                  <a:pt x="7103" y="8248"/>
                  <a:pt x="7085" y="8454"/>
                  <a:pt x="7020" y="8632"/>
                </a:cubicBezTo>
                <a:cubicBezTo>
                  <a:pt x="7020" y="8569"/>
                  <a:pt x="7047" y="8533"/>
                  <a:pt x="7119" y="8508"/>
                </a:cubicBezTo>
              </a:path>
              <a:path w="1737" h="571">
                <a:moveTo>
                  <a:pt x="7392" y="8136"/>
                </a:moveTo>
                <a:cubicBezTo>
                  <a:pt x="7487" y="8100"/>
                  <a:pt x="7641" y="8015"/>
                  <a:pt x="7689" y="8161"/>
                </a:cubicBezTo>
                <a:cubicBezTo>
                  <a:pt x="7751" y="8349"/>
                  <a:pt x="7524" y="8422"/>
                  <a:pt x="7417" y="8508"/>
                </a:cubicBezTo>
                <a:cubicBezTo>
                  <a:pt x="7392" y="8533"/>
                  <a:pt x="7367" y="8557"/>
                  <a:pt x="7342" y="8582"/>
                </a:cubicBezTo>
                <a:cubicBezTo>
                  <a:pt x="7384" y="8645"/>
                  <a:pt x="7585" y="8566"/>
                  <a:pt x="7665" y="8558"/>
                </a:cubicBezTo>
                <a:cubicBezTo>
                  <a:pt x="7723" y="8558"/>
                  <a:pt x="7731" y="8558"/>
                  <a:pt x="7764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7040" y="2813040"/>
            <a:ext cx="428760" cy="285840"/>
          </a:xfrm>
          <a:custGeom>
            <a:avLst/>
            <a:gdLst/>
            <a:ahLst/>
            <a:rect l="l" t="t" r="r" b="b"/>
            <a:pathLst>
              <a:path w="1191" h="795">
                <a:moveTo>
                  <a:pt x="11237" y="8210"/>
                </a:moveTo>
                <a:cubicBezTo>
                  <a:pt x="11237" y="8202"/>
                  <a:pt x="11237" y="8194"/>
                  <a:pt x="11237" y="8186"/>
                </a:cubicBezTo>
              </a:path>
              <a:path w="1191" h="795">
                <a:moveTo>
                  <a:pt x="11237" y="8186"/>
                </a:moveTo>
                <a:lnTo>
                  <a:pt x="11237" y="8186"/>
                </a:lnTo>
              </a:path>
              <a:path w="1191" h="795">
                <a:moveTo>
                  <a:pt x="11261" y="8210"/>
                </a:moveTo>
                <a:cubicBezTo>
                  <a:pt x="11310" y="8296"/>
                  <a:pt x="11353" y="8373"/>
                  <a:pt x="11410" y="8458"/>
                </a:cubicBezTo>
                <a:cubicBezTo>
                  <a:pt x="11445" y="8510"/>
                  <a:pt x="11488" y="8540"/>
                  <a:pt x="11509" y="8582"/>
                </a:cubicBezTo>
              </a:path>
              <a:path w="1191" h="795">
                <a:moveTo>
                  <a:pt x="11559" y="8186"/>
                </a:moveTo>
                <a:cubicBezTo>
                  <a:pt x="11448" y="8295"/>
                  <a:pt x="11289" y="8422"/>
                  <a:pt x="11212" y="8558"/>
                </a:cubicBezTo>
                <a:cubicBezTo>
                  <a:pt x="11220" y="8558"/>
                  <a:pt x="11229" y="8558"/>
                  <a:pt x="11237" y="8558"/>
                </a:cubicBezTo>
              </a:path>
              <a:path w="1191" h="795">
                <a:moveTo>
                  <a:pt x="11832" y="8062"/>
                </a:moveTo>
                <a:cubicBezTo>
                  <a:pt x="11754" y="8100"/>
                  <a:pt x="11762" y="8153"/>
                  <a:pt x="11832" y="8210"/>
                </a:cubicBezTo>
                <a:cubicBezTo>
                  <a:pt x="11958" y="8068"/>
                  <a:pt x="11920" y="8071"/>
                  <a:pt x="11832" y="7938"/>
                </a:cubicBezTo>
                <a:cubicBezTo>
                  <a:pt x="11832" y="7930"/>
                  <a:pt x="11832" y="7921"/>
                  <a:pt x="11832" y="7913"/>
                </a:cubicBezTo>
                <a:cubicBezTo>
                  <a:pt x="12028" y="7905"/>
                  <a:pt x="12288" y="7911"/>
                  <a:pt x="12204" y="8210"/>
                </a:cubicBezTo>
                <a:cubicBezTo>
                  <a:pt x="12187" y="8271"/>
                  <a:pt x="11948" y="8563"/>
                  <a:pt x="12005" y="8533"/>
                </a:cubicBezTo>
              </a:path>
              <a:path w="1191" h="795">
                <a:moveTo>
                  <a:pt x="12254" y="8458"/>
                </a:moveTo>
                <a:cubicBezTo>
                  <a:pt x="12282" y="8543"/>
                  <a:pt x="12291" y="8507"/>
                  <a:pt x="12402" y="8483"/>
                </a:cubicBezTo>
                <a:cubicBezTo>
                  <a:pt x="12402" y="8455"/>
                  <a:pt x="12400" y="8445"/>
                  <a:pt x="12378" y="8434"/>
                </a:cubicBezTo>
              </a:path>
              <a:path w="1191" h="795">
                <a:moveTo>
                  <a:pt x="11237" y="8582"/>
                </a:moveTo>
                <a:cubicBezTo>
                  <a:pt x="11526" y="8582"/>
                  <a:pt x="11816" y="8582"/>
                  <a:pt x="12105" y="8582"/>
                </a:cubicBezTo>
                <a:cubicBezTo>
                  <a:pt x="12104" y="8632"/>
                  <a:pt x="11700" y="8618"/>
                  <a:pt x="11609" y="8607"/>
                </a:cubicBezTo>
                <a:cubicBezTo>
                  <a:pt x="11426" y="8567"/>
                  <a:pt x="11393" y="8561"/>
                  <a:pt x="11286" y="8533"/>
                </a:cubicBezTo>
                <a:cubicBezTo>
                  <a:pt x="11476" y="8586"/>
                  <a:pt x="11650" y="8620"/>
                  <a:pt x="11857" y="8607"/>
                </a:cubicBezTo>
                <a:cubicBezTo>
                  <a:pt x="12279" y="8581"/>
                  <a:pt x="11812" y="8539"/>
                  <a:pt x="11683" y="8533"/>
                </a:cubicBezTo>
                <a:cubicBezTo>
                  <a:pt x="11622" y="8530"/>
                  <a:pt x="11022" y="8538"/>
                  <a:pt x="11509" y="8558"/>
                </a:cubicBezTo>
                <a:cubicBezTo>
                  <a:pt x="11655" y="8564"/>
                  <a:pt x="11809" y="8558"/>
                  <a:pt x="11956" y="8558"/>
                </a:cubicBezTo>
              </a:path>
              <a:path w="1191" h="795">
                <a:moveTo>
                  <a:pt x="11361" y="7888"/>
                </a:moveTo>
                <a:cubicBezTo>
                  <a:pt x="11478" y="8031"/>
                  <a:pt x="11522" y="8220"/>
                  <a:pt x="11609" y="8384"/>
                </a:cubicBezTo>
                <a:cubicBezTo>
                  <a:pt x="11664" y="8477"/>
                  <a:pt x="11663" y="8492"/>
                  <a:pt x="11708" y="8533"/>
                </a:cubicBezTo>
                <a:cubicBezTo>
                  <a:pt x="11672" y="8355"/>
                  <a:pt x="11564" y="8174"/>
                  <a:pt x="11485" y="8012"/>
                </a:cubicBezTo>
                <a:cubicBezTo>
                  <a:pt x="11425" y="7892"/>
                  <a:pt x="11422" y="7865"/>
                  <a:pt x="11361" y="7813"/>
                </a:cubicBezTo>
                <a:cubicBezTo>
                  <a:pt x="11450" y="8044"/>
                  <a:pt x="11560" y="8267"/>
                  <a:pt x="11683" y="8483"/>
                </a:cubicBezTo>
                <a:cubicBezTo>
                  <a:pt x="11742" y="8587"/>
                  <a:pt x="11673" y="8423"/>
                  <a:pt x="11633" y="8310"/>
                </a:cubicBezTo>
                <a:cubicBezTo>
                  <a:pt x="11590" y="8189"/>
                  <a:pt x="11559" y="8025"/>
                  <a:pt x="11509" y="7913"/>
                </a:cubicBezTo>
                <a:cubicBezTo>
                  <a:pt x="11599" y="8105"/>
                  <a:pt x="11644" y="8357"/>
                  <a:pt x="11757" y="8533"/>
                </a:cubicBezTo>
                <a:cubicBezTo>
                  <a:pt x="11757" y="8516"/>
                  <a:pt x="11757" y="8500"/>
                  <a:pt x="11757" y="8483"/>
                </a:cubicBezTo>
              </a:path>
              <a:path w="1191" h="795">
                <a:moveTo>
                  <a:pt x="11435" y="7938"/>
                </a:moveTo>
                <a:cubicBezTo>
                  <a:pt x="11452" y="7921"/>
                  <a:pt x="11670" y="8312"/>
                  <a:pt x="11683" y="8334"/>
                </a:cubicBezTo>
                <a:cubicBezTo>
                  <a:pt x="11748" y="8442"/>
                  <a:pt x="11812" y="8476"/>
                  <a:pt x="11733" y="8508"/>
                </a:cubicBezTo>
              </a:path>
              <a:path w="1191" h="795">
                <a:moveTo>
                  <a:pt x="11981" y="7938"/>
                </a:moveTo>
                <a:cubicBezTo>
                  <a:pt x="11772" y="8139"/>
                  <a:pt x="11552" y="8382"/>
                  <a:pt x="11286" y="8508"/>
                </a:cubicBezTo>
                <a:cubicBezTo>
                  <a:pt x="11286" y="8500"/>
                  <a:pt x="11286" y="8491"/>
                  <a:pt x="11286" y="8483"/>
                </a:cubicBezTo>
                <a:cubicBezTo>
                  <a:pt x="11523" y="8297"/>
                  <a:pt x="11760" y="8113"/>
                  <a:pt x="12005" y="7938"/>
                </a:cubicBezTo>
                <a:cubicBezTo>
                  <a:pt x="12251" y="7762"/>
                  <a:pt x="12151" y="7815"/>
                  <a:pt x="11981" y="7913"/>
                </a:cubicBezTo>
                <a:cubicBezTo>
                  <a:pt x="11783" y="8027"/>
                  <a:pt x="11639" y="8121"/>
                  <a:pt x="11485" y="8285"/>
                </a:cubicBezTo>
                <a:cubicBezTo>
                  <a:pt x="11474" y="8275"/>
                  <a:pt x="11822" y="8029"/>
                  <a:pt x="11881" y="7987"/>
                </a:cubicBezTo>
                <a:cubicBezTo>
                  <a:pt x="11906" y="7971"/>
                  <a:pt x="11931" y="7954"/>
                  <a:pt x="11956" y="7938"/>
                </a:cubicBezTo>
                <a:cubicBezTo>
                  <a:pt x="11734" y="8019"/>
                  <a:pt x="11531" y="8166"/>
                  <a:pt x="11361" y="8334"/>
                </a:cubicBezTo>
                <a:cubicBezTo>
                  <a:pt x="11232" y="8461"/>
                  <a:pt x="11670" y="8155"/>
                  <a:pt x="11807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8840" y="2776680"/>
            <a:ext cx="419040" cy="304560"/>
          </a:xfrm>
          <a:custGeom>
            <a:avLst/>
            <a:gdLst/>
            <a:ahLst/>
            <a:rect l="l" t="t" r="r" b="b"/>
            <a:pathLst>
              <a:path w="1167" h="845">
                <a:moveTo>
                  <a:pt x="13965" y="8186"/>
                </a:moveTo>
                <a:cubicBezTo>
                  <a:pt x="13854" y="8265"/>
                  <a:pt x="13792" y="8325"/>
                  <a:pt x="13717" y="8434"/>
                </a:cubicBezTo>
                <a:cubicBezTo>
                  <a:pt x="13855" y="8529"/>
                  <a:pt x="14142" y="8543"/>
                  <a:pt x="14188" y="8285"/>
                </a:cubicBezTo>
                <a:cubicBezTo>
                  <a:pt x="14205" y="8188"/>
                  <a:pt x="14024" y="8191"/>
                  <a:pt x="14015" y="8186"/>
                </a:cubicBezTo>
              </a:path>
              <a:path w="1167" h="845">
                <a:moveTo>
                  <a:pt x="14660" y="7888"/>
                </a:moveTo>
                <a:cubicBezTo>
                  <a:pt x="14643" y="7880"/>
                  <a:pt x="14627" y="7871"/>
                  <a:pt x="14610" y="7863"/>
                </a:cubicBezTo>
                <a:cubicBezTo>
                  <a:pt x="14572" y="8001"/>
                  <a:pt x="14607" y="8142"/>
                  <a:pt x="14585" y="8285"/>
                </a:cubicBezTo>
                <a:cubicBezTo>
                  <a:pt x="14566" y="8342"/>
                  <a:pt x="14575" y="8367"/>
                  <a:pt x="14536" y="8359"/>
                </a:cubicBezTo>
              </a:path>
              <a:path w="1167" h="845">
                <a:moveTo>
                  <a:pt x="14536" y="8111"/>
                </a:moveTo>
                <a:cubicBezTo>
                  <a:pt x="14704" y="8083"/>
                  <a:pt x="14773" y="8067"/>
                  <a:pt x="14883" y="8012"/>
                </a:cubicBezTo>
              </a:path>
              <a:path w="1167" h="845">
                <a:moveTo>
                  <a:pt x="13791" y="7813"/>
                </a:moveTo>
                <a:cubicBezTo>
                  <a:pt x="14054" y="7984"/>
                  <a:pt x="14294" y="8155"/>
                  <a:pt x="14511" y="8384"/>
                </a:cubicBezTo>
                <a:cubicBezTo>
                  <a:pt x="14589" y="8481"/>
                  <a:pt x="14591" y="8507"/>
                  <a:pt x="14660" y="8533"/>
                </a:cubicBezTo>
                <a:cubicBezTo>
                  <a:pt x="14495" y="8451"/>
                  <a:pt x="14395" y="8327"/>
                  <a:pt x="14312" y="8161"/>
                </a:cubicBezTo>
                <a:cubicBezTo>
                  <a:pt x="14251" y="8018"/>
                  <a:pt x="14254" y="7978"/>
                  <a:pt x="14163" y="7938"/>
                </a:cubicBezTo>
              </a:path>
              <a:path w="1167" h="845">
                <a:moveTo>
                  <a:pt x="14759" y="7813"/>
                </a:moveTo>
                <a:cubicBezTo>
                  <a:pt x="14984" y="7719"/>
                  <a:pt x="14296" y="8204"/>
                  <a:pt x="14288" y="8210"/>
                </a:cubicBezTo>
                <a:cubicBezTo>
                  <a:pt x="14135" y="8338"/>
                  <a:pt x="13984" y="8454"/>
                  <a:pt x="13816" y="8558"/>
                </a:cubicBezTo>
                <a:cubicBezTo>
                  <a:pt x="14002" y="8371"/>
                  <a:pt x="14248" y="8165"/>
                  <a:pt x="14461" y="7987"/>
                </a:cubicBezTo>
                <a:cubicBezTo>
                  <a:pt x="14654" y="7833"/>
                  <a:pt x="14687" y="7817"/>
                  <a:pt x="14784" y="7714"/>
                </a:cubicBezTo>
                <a:cubicBezTo>
                  <a:pt x="14584" y="7869"/>
                  <a:pt x="14361" y="8062"/>
                  <a:pt x="14163" y="8235"/>
                </a:cubicBezTo>
                <a:cubicBezTo>
                  <a:pt x="14082" y="8306"/>
                  <a:pt x="13940" y="8490"/>
                  <a:pt x="13940" y="8384"/>
                </a:cubicBezTo>
              </a:path>
              <a:path w="1167" h="845">
                <a:moveTo>
                  <a:pt x="13965" y="7838"/>
                </a:moveTo>
                <a:cubicBezTo>
                  <a:pt x="14143" y="7898"/>
                  <a:pt x="14205" y="8095"/>
                  <a:pt x="14312" y="8235"/>
                </a:cubicBezTo>
                <a:cubicBezTo>
                  <a:pt x="14446" y="8391"/>
                  <a:pt x="14481" y="8431"/>
                  <a:pt x="14560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2714760"/>
            <a:ext cx="366840" cy="26820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15974" y="7615"/>
                </a:moveTo>
                <a:cubicBezTo>
                  <a:pt x="15941" y="7703"/>
                  <a:pt x="15782" y="7964"/>
                  <a:pt x="15925" y="8012"/>
                </a:cubicBezTo>
                <a:cubicBezTo>
                  <a:pt x="16101" y="8071"/>
                  <a:pt x="16188" y="8004"/>
                  <a:pt x="16321" y="7913"/>
                </a:cubicBezTo>
              </a:path>
              <a:path w="1018" h="745">
                <a:moveTo>
                  <a:pt x="16297" y="7541"/>
                </a:moveTo>
                <a:cubicBezTo>
                  <a:pt x="16242" y="7784"/>
                  <a:pt x="16164" y="8021"/>
                  <a:pt x="16098" y="8260"/>
                </a:cubicBezTo>
                <a:cubicBezTo>
                  <a:pt x="16098" y="8268"/>
                  <a:pt x="16098" y="8277"/>
                  <a:pt x="16098" y="8285"/>
                </a:cubicBezTo>
              </a:path>
              <a:path w="1018" h="745">
                <a:moveTo>
                  <a:pt x="16818" y="7565"/>
                </a:moveTo>
                <a:cubicBezTo>
                  <a:pt x="16569" y="7657"/>
                  <a:pt x="16559" y="7692"/>
                  <a:pt x="16694" y="7913"/>
                </a:cubicBezTo>
                <a:cubicBezTo>
                  <a:pt x="16762" y="8027"/>
                  <a:pt x="16792" y="8059"/>
                  <a:pt x="16718" y="8136"/>
                </a:cubicBezTo>
                <a:cubicBezTo>
                  <a:pt x="16685" y="8153"/>
                  <a:pt x="16652" y="8169"/>
                  <a:pt x="16619" y="8186"/>
                </a:cubicBezTo>
                <a:cubicBezTo>
                  <a:pt x="16538" y="7938"/>
                  <a:pt x="16799" y="7861"/>
                  <a:pt x="16892" y="7640"/>
                </a:cubicBezTo>
                <a:cubicBezTo>
                  <a:pt x="16875" y="7640"/>
                  <a:pt x="16859" y="7640"/>
                  <a:pt x="16842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7840" y="3152880"/>
            <a:ext cx="403200" cy="214200"/>
          </a:xfrm>
          <a:custGeom>
            <a:avLst/>
            <a:gdLst/>
            <a:ahLst/>
            <a:rect l="l" t="t" r="r" b="b"/>
            <a:pathLst>
              <a:path w="1117" h="596">
                <a:moveTo>
                  <a:pt x="6995" y="8979"/>
                </a:moveTo>
                <a:cubicBezTo>
                  <a:pt x="7334" y="8913"/>
                  <a:pt x="7673" y="8848"/>
                  <a:pt x="8012" y="8781"/>
                </a:cubicBezTo>
                <a:cubicBezTo>
                  <a:pt x="8045" y="8773"/>
                  <a:pt x="8078" y="8764"/>
                  <a:pt x="8111" y="8756"/>
                </a:cubicBezTo>
              </a:path>
              <a:path w="1117" h="596">
                <a:moveTo>
                  <a:pt x="6995" y="9004"/>
                </a:moveTo>
                <a:cubicBezTo>
                  <a:pt x="7044" y="9066"/>
                  <a:pt x="7013" y="9125"/>
                  <a:pt x="7045" y="9178"/>
                </a:cubicBezTo>
                <a:cubicBezTo>
                  <a:pt x="7086" y="9245"/>
                  <a:pt x="7283" y="9127"/>
                  <a:pt x="7317" y="9103"/>
                </a:cubicBezTo>
                <a:cubicBezTo>
                  <a:pt x="7325" y="9095"/>
                  <a:pt x="7334" y="9087"/>
                  <a:pt x="7342" y="9079"/>
                </a:cubicBezTo>
                <a:cubicBezTo>
                  <a:pt x="7304" y="9166"/>
                  <a:pt x="7276" y="9259"/>
                  <a:pt x="7243" y="9351"/>
                </a:cubicBezTo>
              </a:path>
              <a:path w="1117" h="596">
                <a:moveTo>
                  <a:pt x="7789" y="8954"/>
                </a:moveTo>
                <a:cubicBezTo>
                  <a:pt x="7740" y="8954"/>
                  <a:pt x="7453" y="9008"/>
                  <a:pt x="7615" y="9103"/>
                </a:cubicBezTo>
                <a:cubicBezTo>
                  <a:pt x="7739" y="9145"/>
                  <a:pt x="7764" y="9153"/>
                  <a:pt x="7838" y="9178"/>
                </a:cubicBezTo>
                <a:cubicBezTo>
                  <a:pt x="7792" y="9224"/>
                  <a:pt x="7753" y="9239"/>
                  <a:pt x="7689" y="9227"/>
                </a:cubicBezTo>
                <a:cubicBezTo>
                  <a:pt x="7736" y="9076"/>
                  <a:pt x="7839" y="9045"/>
                  <a:pt x="7938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22960" y="3286080"/>
            <a:ext cx="268200" cy="135000"/>
          </a:xfrm>
          <a:custGeom>
            <a:avLst/>
            <a:gdLst/>
            <a:ahLst/>
            <a:rect l="l" t="t" r="r" b="b"/>
            <a:pathLst>
              <a:path w="745" h="373">
                <a:moveTo>
                  <a:pt x="14784" y="9227"/>
                </a:moveTo>
                <a:cubicBezTo>
                  <a:pt x="14784" y="9312"/>
                  <a:pt x="14748" y="9393"/>
                  <a:pt x="14858" y="9426"/>
                </a:cubicBezTo>
                <a:cubicBezTo>
                  <a:pt x="14978" y="9426"/>
                  <a:pt x="15015" y="9428"/>
                  <a:pt x="15081" y="9376"/>
                </a:cubicBezTo>
              </a:path>
              <a:path w="745" h="373">
                <a:moveTo>
                  <a:pt x="15106" y="9128"/>
                </a:moveTo>
                <a:cubicBezTo>
                  <a:pt x="15060" y="9266"/>
                  <a:pt x="15024" y="9396"/>
                  <a:pt x="15081" y="9500"/>
                </a:cubicBezTo>
              </a:path>
              <a:path w="745" h="373">
                <a:moveTo>
                  <a:pt x="15379" y="9153"/>
                </a:moveTo>
                <a:cubicBezTo>
                  <a:pt x="15273" y="9228"/>
                  <a:pt x="15312" y="9271"/>
                  <a:pt x="15379" y="9376"/>
                </a:cubicBezTo>
                <a:cubicBezTo>
                  <a:pt x="15396" y="9401"/>
                  <a:pt x="15412" y="9426"/>
                  <a:pt x="15429" y="9451"/>
                </a:cubicBezTo>
                <a:cubicBezTo>
                  <a:pt x="15242" y="9435"/>
                  <a:pt x="15272" y="9412"/>
                  <a:pt x="15404" y="9277"/>
                </a:cubicBezTo>
                <a:cubicBezTo>
                  <a:pt x="15511" y="9170"/>
                  <a:pt x="15576" y="9123"/>
                  <a:pt x="15429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1800" y="4894200"/>
            <a:ext cx="115920" cy="160560"/>
          </a:xfrm>
          <a:custGeom>
            <a:avLst/>
            <a:gdLst/>
            <a:ahLst/>
            <a:rect l="l" t="t" r="r" b="b"/>
            <a:pathLst>
              <a:path w="323" h="447">
                <a:moveTo>
                  <a:pt x="6052" y="13643"/>
                </a:moveTo>
                <a:cubicBezTo>
                  <a:pt x="6065" y="13785"/>
                  <a:pt x="6080" y="13898"/>
                  <a:pt x="6052" y="14039"/>
                </a:cubicBezTo>
              </a:path>
              <a:path w="323" h="447">
                <a:moveTo>
                  <a:pt x="5804" y="13593"/>
                </a:moveTo>
                <a:cubicBezTo>
                  <a:pt x="5786" y="13680"/>
                  <a:pt x="5747" y="13801"/>
                  <a:pt x="5755" y="13891"/>
                </a:cubicBezTo>
                <a:cubicBezTo>
                  <a:pt x="5763" y="13899"/>
                  <a:pt x="5771" y="13907"/>
                  <a:pt x="5779" y="13915"/>
                </a:cubicBezTo>
                <a:cubicBezTo>
                  <a:pt x="5861" y="13890"/>
                  <a:pt x="5947" y="13857"/>
                  <a:pt x="6028" y="13841"/>
                </a:cubicBezTo>
              </a:path>
              <a:path w="323" h="447">
                <a:moveTo>
                  <a:pt x="6003" y="13667"/>
                </a:moveTo>
                <a:cubicBezTo>
                  <a:pt x="6003" y="13733"/>
                  <a:pt x="6003" y="13800"/>
                  <a:pt x="6003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7000" y="4705200"/>
            <a:ext cx="1589040" cy="1849680"/>
          </a:xfrm>
          <a:custGeom>
            <a:avLst/>
            <a:gdLst/>
            <a:ahLst/>
            <a:rect l="l" t="t" r="r" b="b"/>
            <a:pathLst>
              <a:path w="4416" h="5136">
                <a:moveTo>
                  <a:pt x="8260" y="14163"/>
                </a:moveTo>
                <a:cubicBezTo>
                  <a:pt x="8232" y="14369"/>
                  <a:pt x="8210" y="14508"/>
                  <a:pt x="8210" y="14709"/>
                </a:cubicBezTo>
              </a:path>
              <a:path w="4416" h="5136">
                <a:moveTo>
                  <a:pt x="8632" y="14015"/>
                </a:moveTo>
                <a:cubicBezTo>
                  <a:pt x="8912" y="14146"/>
                  <a:pt x="9261" y="14359"/>
                  <a:pt x="8855" y="14660"/>
                </a:cubicBezTo>
                <a:cubicBezTo>
                  <a:pt x="8711" y="14701"/>
                  <a:pt x="8678" y="14734"/>
                  <a:pt x="8607" y="14660"/>
                </a:cubicBezTo>
                <a:cubicBezTo>
                  <a:pt x="8784" y="14462"/>
                  <a:pt x="8908" y="14390"/>
                  <a:pt x="9103" y="14635"/>
                </a:cubicBezTo>
                <a:cubicBezTo>
                  <a:pt x="9103" y="14643"/>
                  <a:pt x="9103" y="14652"/>
                  <a:pt x="9103" y="14660"/>
                </a:cubicBezTo>
              </a:path>
              <a:path w="4416" h="5136">
                <a:moveTo>
                  <a:pt x="7789" y="15106"/>
                </a:moveTo>
                <a:cubicBezTo>
                  <a:pt x="7767" y="14850"/>
                  <a:pt x="7779" y="14594"/>
                  <a:pt x="7764" y="14337"/>
                </a:cubicBezTo>
                <a:cubicBezTo>
                  <a:pt x="7745" y="14187"/>
                  <a:pt x="7758" y="14163"/>
                  <a:pt x="7714" y="14089"/>
                </a:cubicBezTo>
                <a:cubicBezTo>
                  <a:pt x="8194" y="14035"/>
                  <a:pt x="8671" y="13939"/>
                  <a:pt x="9153" y="13891"/>
                </a:cubicBezTo>
                <a:cubicBezTo>
                  <a:pt x="9383" y="13868"/>
                  <a:pt x="9554" y="13871"/>
                  <a:pt x="9773" y="13866"/>
                </a:cubicBezTo>
              </a:path>
              <a:path w="4416" h="5136">
                <a:moveTo>
                  <a:pt x="6598" y="14312"/>
                </a:moveTo>
                <a:cubicBezTo>
                  <a:pt x="6586" y="14472"/>
                  <a:pt x="6550" y="14577"/>
                  <a:pt x="6623" y="14709"/>
                </a:cubicBezTo>
                <a:cubicBezTo>
                  <a:pt x="6787" y="14668"/>
                  <a:pt x="6840" y="14643"/>
                  <a:pt x="6970" y="14536"/>
                </a:cubicBezTo>
              </a:path>
              <a:path w="4416" h="5136">
                <a:moveTo>
                  <a:pt x="6896" y="14213"/>
                </a:moveTo>
                <a:cubicBezTo>
                  <a:pt x="6881" y="14289"/>
                  <a:pt x="6731" y="14963"/>
                  <a:pt x="6772" y="14982"/>
                </a:cubicBezTo>
                <a:cubicBezTo>
                  <a:pt x="6797" y="14949"/>
                  <a:pt x="6821" y="14916"/>
                  <a:pt x="6846" y="14883"/>
                </a:cubicBezTo>
              </a:path>
              <a:path w="4416" h="5136">
                <a:moveTo>
                  <a:pt x="7193" y="14238"/>
                </a:moveTo>
                <a:cubicBezTo>
                  <a:pt x="6991" y="14533"/>
                  <a:pt x="7140" y="14410"/>
                  <a:pt x="7293" y="14635"/>
                </a:cubicBezTo>
                <a:cubicBezTo>
                  <a:pt x="7293" y="14660"/>
                  <a:pt x="7293" y="14684"/>
                  <a:pt x="7293" y="14709"/>
                </a:cubicBezTo>
                <a:cubicBezTo>
                  <a:pt x="7216" y="14761"/>
                  <a:pt x="7188" y="14777"/>
                  <a:pt x="7119" y="14759"/>
                </a:cubicBezTo>
                <a:cubicBezTo>
                  <a:pt x="7145" y="14686"/>
                  <a:pt x="7387" y="14242"/>
                  <a:pt x="7367" y="14213"/>
                </a:cubicBezTo>
                <a:cubicBezTo>
                  <a:pt x="7350" y="14213"/>
                  <a:pt x="7334" y="14213"/>
                  <a:pt x="7317" y="14213"/>
                </a:cubicBezTo>
              </a:path>
              <a:path w="4416" h="5136">
                <a:moveTo>
                  <a:pt x="9227" y="14560"/>
                </a:moveTo>
                <a:cubicBezTo>
                  <a:pt x="9252" y="14560"/>
                  <a:pt x="9260" y="14560"/>
                  <a:pt x="9252" y="14536"/>
                </a:cubicBezTo>
                <a:cubicBezTo>
                  <a:pt x="9252" y="14577"/>
                  <a:pt x="9262" y="14617"/>
                  <a:pt x="9302" y="14560"/>
                </a:cubicBezTo>
                <a:cubicBezTo>
                  <a:pt x="9322" y="14520"/>
                  <a:pt x="9341" y="14504"/>
                  <a:pt x="9302" y="14511"/>
                </a:cubicBezTo>
              </a:path>
              <a:path w="4416" h="5136">
                <a:moveTo>
                  <a:pt x="9277" y="13667"/>
                </a:moveTo>
                <a:cubicBezTo>
                  <a:pt x="9259" y="13614"/>
                  <a:pt x="9252" y="13655"/>
                  <a:pt x="9252" y="13692"/>
                </a:cubicBezTo>
                <a:cubicBezTo>
                  <a:pt x="9252" y="13744"/>
                  <a:pt x="9254" y="13760"/>
                  <a:pt x="9302" y="13717"/>
                </a:cubicBezTo>
                <a:cubicBezTo>
                  <a:pt x="9294" y="13667"/>
                  <a:pt x="9254" y="13625"/>
                  <a:pt x="9203" y="13692"/>
                </a:cubicBezTo>
                <a:cubicBezTo>
                  <a:pt x="9195" y="13709"/>
                  <a:pt x="9186" y="13725"/>
                  <a:pt x="9178" y="13742"/>
                </a:cubicBezTo>
                <a:cubicBezTo>
                  <a:pt x="9247" y="13794"/>
                  <a:pt x="9279" y="13685"/>
                  <a:pt x="9252" y="13667"/>
                </a:cubicBezTo>
                <a:cubicBezTo>
                  <a:pt x="9184" y="13621"/>
                  <a:pt x="9182" y="13717"/>
                  <a:pt x="9178" y="13742"/>
                </a:cubicBezTo>
              </a:path>
              <a:path w="4416" h="5136">
                <a:moveTo>
                  <a:pt x="9723" y="14114"/>
                </a:moveTo>
                <a:cubicBezTo>
                  <a:pt x="9615" y="14190"/>
                  <a:pt x="9456" y="14354"/>
                  <a:pt x="9500" y="14511"/>
                </a:cubicBezTo>
                <a:cubicBezTo>
                  <a:pt x="9525" y="14536"/>
                  <a:pt x="9550" y="14560"/>
                  <a:pt x="9575" y="14585"/>
                </a:cubicBezTo>
                <a:cubicBezTo>
                  <a:pt x="9730" y="14562"/>
                  <a:pt x="10003" y="14452"/>
                  <a:pt x="9798" y="14238"/>
                </a:cubicBezTo>
                <a:cubicBezTo>
                  <a:pt x="9734" y="14171"/>
                  <a:pt x="9650" y="14229"/>
                  <a:pt x="9599" y="14263"/>
                </a:cubicBezTo>
              </a:path>
              <a:path w="4416" h="5136">
                <a:moveTo>
                  <a:pt x="8756" y="13271"/>
                </a:moveTo>
                <a:cubicBezTo>
                  <a:pt x="8668" y="13260"/>
                  <a:pt x="8606" y="13233"/>
                  <a:pt x="8533" y="13320"/>
                </a:cubicBezTo>
                <a:cubicBezTo>
                  <a:pt x="8411" y="13466"/>
                  <a:pt x="8400" y="13589"/>
                  <a:pt x="8384" y="13767"/>
                </a:cubicBezTo>
                <a:cubicBezTo>
                  <a:pt x="8554" y="13869"/>
                  <a:pt x="8701" y="13887"/>
                  <a:pt x="8830" y="13692"/>
                </a:cubicBezTo>
                <a:cubicBezTo>
                  <a:pt x="8922" y="13553"/>
                  <a:pt x="8898" y="13363"/>
                  <a:pt x="8781" y="13246"/>
                </a:cubicBezTo>
                <a:cubicBezTo>
                  <a:pt x="8746" y="13246"/>
                  <a:pt x="8728" y="13241"/>
                  <a:pt x="8706" y="13221"/>
                </a:cubicBezTo>
              </a:path>
              <a:path w="4416" h="5136">
                <a:moveTo>
                  <a:pt x="9550" y="13146"/>
                </a:moveTo>
                <a:cubicBezTo>
                  <a:pt x="9530" y="13187"/>
                  <a:pt x="9521" y="13214"/>
                  <a:pt x="9525" y="13171"/>
                </a:cubicBezTo>
                <a:cubicBezTo>
                  <a:pt x="9592" y="13090"/>
                  <a:pt x="9728" y="12998"/>
                  <a:pt x="9748" y="13196"/>
                </a:cubicBezTo>
                <a:cubicBezTo>
                  <a:pt x="9774" y="13452"/>
                  <a:pt x="9557" y="13613"/>
                  <a:pt x="9351" y="13667"/>
                </a:cubicBezTo>
                <a:cubicBezTo>
                  <a:pt x="9400" y="13571"/>
                  <a:pt x="9558" y="13335"/>
                  <a:pt x="9699" y="13494"/>
                </a:cubicBezTo>
                <a:cubicBezTo>
                  <a:pt x="9721" y="13610"/>
                  <a:pt x="9727" y="13644"/>
                  <a:pt x="9748" y="13717"/>
                </a:cubicBezTo>
              </a:path>
              <a:path w="4416" h="5136">
                <a:moveTo>
                  <a:pt x="9748" y="14982"/>
                </a:moveTo>
                <a:cubicBezTo>
                  <a:pt x="9748" y="15030"/>
                  <a:pt x="9652" y="15351"/>
                  <a:pt x="9649" y="15503"/>
                </a:cubicBezTo>
                <a:cubicBezTo>
                  <a:pt x="9643" y="15835"/>
                  <a:pt x="10014" y="15344"/>
                  <a:pt x="10046" y="15304"/>
                </a:cubicBezTo>
                <a:cubicBezTo>
                  <a:pt x="10046" y="15238"/>
                  <a:pt x="10054" y="15213"/>
                  <a:pt x="9996" y="15230"/>
                </a:cubicBezTo>
                <a:cubicBezTo>
                  <a:pt x="9969" y="15281"/>
                  <a:pt x="9795" y="15562"/>
                  <a:pt x="9897" y="15528"/>
                </a:cubicBezTo>
              </a:path>
              <a:path w="4416" h="5136">
                <a:moveTo>
                  <a:pt x="9054" y="15280"/>
                </a:moveTo>
                <a:cubicBezTo>
                  <a:pt x="9127" y="15132"/>
                  <a:pt x="9130" y="15141"/>
                  <a:pt x="9054" y="15007"/>
                </a:cubicBezTo>
                <a:cubicBezTo>
                  <a:pt x="8969" y="15029"/>
                  <a:pt x="8593" y="15327"/>
                  <a:pt x="8880" y="15379"/>
                </a:cubicBezTo>
                <a:cubicBezTo>
                  <a:pt x="9023" y="15405"/>
                  <a:pt x="9101" y="15194"/>
                  <a:pt x="9153" y="15106"/>
                </a:cubicBezTo>
                <a:cubicBezTo>
                  <a:pt x="9132" y="15296"/>
                  <a:pt x="9140" y="15489"/>
                  <a:pt x="9103" y="15677"/>
                </a:cubicBezTo>
                <a:cubicBezTo>
                  <a:pt x="9095" y="15693"/>
                  <a:pt x="9087" y="15710"/>
                  <a:pt x="9079" y="15726"/>
                </a:cubicBezTo>
              </a:path>
              <a:path w="4416" h="5136">
                <a:moveTo>
                  <a:pt x="8409" y="16049"/>
                </a:moveTo>
                <a:cubicBezTo>
                  <a:pt x="9076" y="15907"/>
                  <a:pt x="9741" y="15761"/>
                  <a:pt x="10418" y="15677"/>
                </a:cubicBezTo>
                <a:cubicBezTo>
                  <a:pt x="10554" y="15660"/>
                  <a:pt x="10445" y="15685"/>
                  <a:pt x="10393" y="15751"/>
                </a:cubicBezTo>
              </a:path>
              <a:path w="4416" h="5136">
                <a:moveTo>
                  <a:pt x="7789" y="15801"/>
                </a:moveTo>
                <a:cubicBezTo>
                  <a:pt x="7936" y="15752"/>
                  <a:pt x="7983" y="15735"/>
                  <a:pt x="8086" y="15726"/>
                </a:cubicBezTo>
              </a:path>
              <a:path w="4416" h="5136">
                <a:moveTo>
                  <a:pt x="8756" y="14089"/>
                </a:moveTo>
                <a:cubicBezTo>
                  <a:pt x="8874" y="14236"/>
                  <a:pt x="8961" y="14464"/>
                  <a:pt x="9029" y="14635"/>
                </a:cubicBezTo>
                <a:cubicBezTo>
                  <a:pt x="9090" y="14819"/>
                  <a:pt x="9096" y="14856"/>
                  <a:pt x="9153" y="14957"/>
                </a:cubicBezTo>
              </a:path>
              <a:path w="4416" h="5136">
                <a:moveTo>
                  <a:pt x="8508" y="14784"/>
                </a:moveTo>
                <a:cubicBezTo>
                  <a:pt x="8524" y="14893"/>
                  <a:pt x="8533" y="14994"/>
                  <a:pt x="8533" y="15106"/>
                </a:cubicBezTo>
                <a:cubicBezTo>
                  <a:pt x="8533" y="15114"/>
                  <a:pt x="8533" y="15123"/>
                  <a:pt x="8533" y="15131"/>
                </a:cubicBezTo>
              </a:path>
              <a:path w="4416" h="5136">
                <a:moveTo>
                  <a:pt x="9327" y="14139"/>
                </a:moveTo>
                <a:cubicBezTo>
                  <a:pt x="9315" y="14245"/>
                  <a:pt x="9317" y="14326"/>
                  <a:pt x="9327" y="14436"/>
                </a:cubicBezTo>
              </a:path>
              <a:path w="4416" h="5136">
                <a:moveTo>
                  <a:pt x="9872" y="16073"/>
                </a:moveTo>
                <a:cubicBezTo>
                  <a:pt x="9894" y="16149"/>
                  <a:pt x="9857" y="16232"/>
                  <a:pt x="9847" y="16321"/>
                </a:cubicBezTo>
                <a:cubicBezTo>
                  <a:pt x="9960" y="16313"/>
                  <a:pt x="10046" y="16265"/>
                  <a:pt x="10145" y="16247"/>
                </a:cubicBezTo>
                <a:cubicBezTo>
                  <a:pt x="10153" y="16247"/>
                  <a:pt x="10162" y="16247"/>
                  <a:pt x="10170" y="16247"/>
                </a:cubicBezTo>
              </a:path>
              <a:path w="4416" h="5136">
                <a:moveTo>
                  <a:pt x="10195" y="16049"/>
                </a:moveTo>
                <a:cubicBezTo>
                  <a:pt x="10139" y="16221"/>
                  <a:pt x="10102" y="16401"/>
                  <a:pt x="10046" y="16570"/>
                </a:cubicBezTo>
              </a:path>
              <a:path w="4416" h="5136">
                <a:moveTo>
                  <a:pt x="9252" y="16197"/>
                </a:moveTo>
                <a:cubicBezTo>
                  <a:pt x="9322" y="16197"/>
                  <a:pt x="9383" y="16180"/>
                  <a:pt x="9451" y="16173"/>
                </a:cubicBezTo>
                <a:cubicBezTo>
                  <a:pt x="9508" y="16273"/>
                  <a:pt x="9505" y="16362"/>
                  <a:pt x="9451" y="16470"/>
                </a:cubicBezTo>
                <a:cubicBezTo>
                  <a:pt x="9411" y="16550"/>
                  <a:pt x="9332" y="16618"/>
                  <a:pt x="9302" y="16694"/>
                </a:cubicBezTo>
                <a:cubicBezTo>
                  <a:pt x="9416" y="16694"/>
                  <a:pt x="9513" y="16619"/>
                  <a:pt x="9624" y="16619"/>
                </a:cubicBezTo>
                <a:cubicBezTo>
                  <a:pt x="9647" y="16642"/>
                  <a:pt x="9651" y="16650"/>
                  <a:pt x="9674" y="16644"/>
                </a:cubicBezTo>
              </a:path>
              <a:path w="4416" h="5136">
                <a:moveTo>
                  <a:pt x="10319" y="14188"/>
                </a:moveTo>
                <a:cubicBezTo>
                  <a:pt x="10197" y="14142"/>
                  <a:pt x="10163" y="14179"/>
                  <a:pt x="10120" y="14337"/>
                </a:cubicBezTo>
                <a:cubicBezTo>
                  <a:pt x="10099" y="14487"/>
                  <a:pt x="10086" y="14521"/>
                  <a:pt x="10120" y="14610"/>
                </a:cubicBezTo>
                <a:cubicBezTo>
                  <a:pt x="10313" y="14545"/>
                  <a:pt x="10579" y="14436"/>
                  <a:pt x="10468" y="14163"/>
                </a:cubicBezTo>
                <a:cubicBezTo>
                  <a:pt x="10401" y="14097"/>
                  <a:pt x="10385" y="14081"/>
                  <a:pt x="10344" y="14039"/>
                </a:cubicBezTo>
              </a:path>
              <a:path w="4416" h="5136">
                <a:moveTo>
                  <a:pt x="10344" y="14635"/>
                </a:moveTo>
                <a:cubicBezTo>
                  <a:pt x="10344" y="14618"/>
                  <a:pt x="10344" y="14602"/>
                  <a:pt x="10344" y="14585"/>
                </a:cubicBezTo>
                <a:cubicBezTo>
                  <a:pt x="10378" y="14708"/>
                  <a:pt x="10331" y="14885"/>
                  <a:pt x="10344" y="15032"/>
                </a:cubicBezTo>
                <a:cubicBezTo>
                  <a:pt x="10362" y="15123"/>
                  <a:pt x="10370" y="15130"/>
                  <a:pt x="10368" y="15180"/>
                </a:cubicBezTo>
              </a:path>
              <a:path w="4416" h="5136">
                <a:moveTo>
                  <a:pt x="10517" y="15925"/>
                </a:moveTo>
                <a:cubicBezTo>
                  <a:pt x="10470" y="15784"/>
                  <a:pt x="10393" y="16171"/>
                  <a:pt x="10393" y="16173"/>
                </a:cubicBezTo>
                <a:cubicBezTo>
                  <a:pt x="10393" y="16272"/>
                  <a:pt x="10393" y="16288"/>
                  <a:pt x="10393" y="16346"/>
                </a:cubicBezTo>
                <a:cubicBezTo>
                  <a:pt x="10536" y="16316"/>
                  <a:pt x="10737" y="16226"/>
                  <a:pt x="10765" y="16049"/>
                </a:cubicBezTo>
                <a:cubicBezTo>
                  <a:pt x="10792" y="15881"/>
                  <a:pt x="10676" y="15894"/>
                  <a:pt x="10592" y="15949"/>
                </a:cubicBezTo>
              </a:path>
              <a:path w="4416" h="5136">
                <a:moveTo>
                  <a:pt x="10393" y="13196"/>
                </a:moveTo>
                <a:cubicBezTo>
                  <a:pt x="10366" y="13279"/>
                  <a:pt x="10300" y="13362"/>
                  <a:pt x="10269" y="13444"/>
                </a:cubicBezTo>
                <a:cubicBezTo>
                  <a:pt x="10371" y="13444"/>
                  <a:pt x="10442" y="13454"/>
                  <a:pt x="10542" y="13469"/>
                </a:cubicBezTo>
                <a:cubicBezTo>
                  <a:pt x="10550" y="13568"/>
                  <a:pt x="10386" y="13842"/>
                  <a:pt x="10269" y="13692"/>
                </a:cubicBezTo>
                <a:cubicBezTo>
                  <a:pt x="10269" y="13651"/>
                  <a:pt x="10269" y="13609"/>
                  <a:pt x="10269" y="13568"/>
                </a:cubicBezTo>
              </a:path>
              <a:path w="4416" h="5136">
                <a:moveTo>
                  <a:pt x="10468" y="13196"/>
                </a:moveTo>
                <a:cubicBezTo>
                  <a:pt x="10552" y="13171"/>
                  <a:pt x="10762" y="13070"/>
                  <a:pt x="10815" y="13146"/>
                </a:cubicBezTo>
              </a:path>
              <a:path w="4416" h="5136">
                <a:moveTo>
                  <a:pt x="9748" y="13767"/>
                </a:moveTo>
                <a:cubicBezTo>
                  <a:pt x="9888" y="13816"/>
                  <a:pt x="10021" y="13838"/>
                  <a:pt x="10170" y="13841"/>
                </a:cubicBezTo>
                <a:cubicBezTo>
                  <a:pt x="10418" y="13846"/>
                  <a:pt x="10665" y="13816"/>
                  <a:pt x="10914" y="13816"/>
                </a:cubicBezTo>
                <a:cubicBezTo>
                  <a:pt x="10955" y="13816"/>
                  <a:pt x="10963" y="13816"/>
                  <a:pt x="10988" y="13816"/>
                </a:cubicBezTo>
              </a:path>
              <a:path w="4416" h="5136">
                <a:moveTo>
                  <a:pt x="10765" y="16718"/>
                </a:moveTo>
                <a:cubicBezTo>
                  <a:pt x="10601" y="16867"/>
                  <a:pt x="10551" y="17003"/>
                  <a:pt x="10517" y="17214"/>
                </a:cubicBezTo>
                <a:cubicBezTo>
                  <a:pt x="10696" y="17226"/>
                  <a:pt x="10889" y="17149"/>
                  <a:pt x="10889" y="16917"/>
                </a:cubicBezTo>
                <a:cubicBezTo>
                  <a:pt x="10889" y="16832"/>
                  <a:pt x="10793" y="16714"/>
                  <a:pt x="10740" y="16793"/>
                </a:cubicBezTo>
              </a:path>
              <a:path w="4416" h="5136">
                <a:moveTo>
                  <a:pt x="9401" y="17041"/>
                </a:moveTo>
                <a:cubicBezTo>
                  <a:pt x="9495" y="16914"/>
                  <a:pt x="9664" y="17028"/>
                  <a:pt x="9674" y="17190"/>
                </a:cubicBezTo>
                <a:cubicBezTo>
                  <a:pt x="9688" y="17408"/>
                  <a:pt x="9515" y="17579"/>
                  <a:pt x="9327" y="17562"/>
                </a:cubicBezTo>
                <a:cubicBezTo>
                  <a:pt x="9484" y="17385"/>
                  <a:pt x="9563" y="17329"/>
                  <a:pt x="9773" y="17413"/>
                </a:cubicBezTo>
                <a:cubicBezTo>
                  <a:pt x="9781" y="17413"/>
                  <a:pt x="9790" y="17413"/>
                  <a:pt x="9798" y="17413"/>
                </a:cubicBezTo>
              </a:path>
              <a:path w="4416" h="5136">
                <a:moveTo>
                  <a:pt x="9922" y="16966"/>
                </a:moveTo>
                <a:cubicBezTo>
                  <a:pt x="9926" y="17020"/>
                  <a:pt x="9934" y="17291"/>
                  <a:pt x="10071" y="17190"/>
                </a:cubicBezTo>
                <a:cubicBezTo>
                  <a:pt x="10185" y="17106"/>
                  <a:pt x="10145" y="16962"/>
                  <a:pt x="10145" y="16842"/>
                </a:cubicBezTo>
                <a:cubicBezTo>
                  <a:pt x="10033" y="16788"/>
                  <a:pt x="10051" y="17236"/>
                  <a:pt x="10046" y="17314"/>
                </a:cubicBezTo>
                <a:cubicBezTo>
                  <a:pt x="10046" y="17434"/>
                  <a:pt x="10048" y="17471"/>
                  <a:pt x="9996" y="17537"/>
                </a:cubicBezTo>
              </a:path>
              <a:path w="4416" h="5136">
                <a:moveTo>
                  <a:pt x="9327" y="17785"/>
                </a:moveTo>
                <a:cubicBezTo>
                  <a:pt x="9698" y="17695"/>
                  <a:pt x="10131" y="17536"/>
                  <a:pt x="10517" y="17537"/>
                </a:cubicBezTo>
                <a:cubicBezTo>
                  <a:pt x="10517" y="17545"/>
                  <a:pt x="10517" y="17554"/>
                  <a:pt x="10517" y="17562"/>
                </a:cubicBezTo>
              </a:path>
              <a:path w="4416" h="5136">
                <a:moveTo>
                  <a:pt x="10319" y="17785"/>
                </a:moveTo>
                <a:cubicBezTo>
                  <a:pt x="10201" y="17963"/>
                  <a:pt x="10145" y="18011"/>
                  <a:pt x="10145" y="18207"/>
                </a:cubicBezTo>
                <a:cubicBezTo>
                  <a:pt x="10275" y="18178"/>
                  <a:pt x="10594" y="18049"/>
                  <a:pt x="10517" y="17835"/>
                </a:cubicBezTo>
                <a:cubicBezTo>
                  <a:pt x="10411" y="17755"/>
                  <a:pt x="10369" y="17728"/>
                  <a:pt x="10269" y="17735"/>
                </a:cubicBezTo>
              </a:path>
              <a:path w="4416" h="5136">
                <a:moveTo>
                  <a:pt x="8806" y="17338"/>
                </a:moveTo>
                <a:cubicBezTo>
                  <a:pt x="8909" y="17338"/>
                  <a:pt x="8945" y="17336"/>
                  <a:pt x="9004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38800" y="4741920"/>
            <a:ext cx="187200" cy="115920"/>
          </a:xfrm>
          <a:custGeom>
            <a:avLst/>
            <a:gdLst/>
            <a:ahLst/>
            <a:rect l="l" t="t" r="r" b="b"/>
            <a:pathLst>
              <a:path w="522" h="324">
                <a:moveTo>
                  <a:pt x="12328" y="13271"/>
                </a:moveTo>
                <a:cubicBezTo>
                  <a:pt x="12471" y="13223"/>
                  <a:pt x="12625" y="13222"/>
                  <a:pt x="12774" y="13196"/>
                </a:cubicBezTo>
                <a:cubicBezTo>
                  <a:pt x="12799" y="13188"/>
                  <a:pt x="12824" y="13179"/>
                  <a:pt x="12849" y="13171"/>
                </a:cubicBezTo>
              </a:path>
              <a:path w="522" h="324">
                <a:moveTo>
                  <a:pt x="12452" y="13494"/>
                </a:moveTo>
                <a:cubicBezTo>
                  <a:pt x="12576" y="13476"/>
                  <a:pt x="12700" y="13454"/>
                  <a:pt x="12824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91040" y="4589640"/>
            <a:ext cx="955800" cy="339480"/>
          </a:xfrm>
          <a:custGeom>
            <a:avLst/>
            <a:gdLst/>
            <a:ahLst/>
            <a:rect l="l" t="t" r="r" b="b"/>
            <a:pathLst>
              <a:path w="2655" h="943">
                <a:moveTo>
                  <a:pt x="14064" y="13097"/>
                </a:moveTo>
                <a:cubicBezTo>
                  <a:pt x="14223" y="13017"/>
                  <a:pt x="14370" y="13121"/>
                  <a:pt x="14362" y="13320"/>
                </a:cubicBezTo>
                <a:cubicBezTo>
                  <a:pt x="14350" y="13626"/>
                  <a:pt x="14096" y="13714"/>
                  <a:pt x="13866" y="13643"/>
                </a:cubicBezTo>
                <a:cubicBezTo>
                  <a:pt x="14113" y="13531"/>
                  <a:pt x="14219" y="13586"/>
                  <a:pt x="14461" y="13692"/>
                </a:cubicBezTo>
                <a:cubicBezTo>
                  <a:pt x="14486" y="13692"/>
                  <a:pt x="14494" y="13692"/>
                  <a:pt x="14486" y="13667"/>
                </a:cubicBezTo>
              </a:path>
              <a:path w="2655" h="943">
                <a:moveTo>
                  <a:pt x="14883" y="12973"/>
                </a:moveTo>
                <a:cubicBezTo>
                  <a:pt x="14734" y="13027"/>
                  <a:pt x="14651" y="13002"/>
                  <a:pt x="14610" y="13146"/>
                </a:cubicBezTo>
                <a:cubicBezTo>
                  <a:pt x="14602" y="13179"/>
                  <a:pt x="14593" y="13213"/>
                  <a:pt x="14585" y="13246"/>
                </a:cubicBezTo>
                <a:cubicBezTo>
                  <a:pt x="14757" y="13275"/>
                  <a:pt x="14957" y="13162"/>
                  <a:pt x="15081" y="13345"/>
                </a:cubicBezTo>
                <a:cubicBezTo>
                  <a:pt x="15237" y="13575"/>
                  <a:pt x="14840" y="13703"/>
                  <a:pt x="14684" y="13618"/>
                </a:cubicBezTo>
                <a:cubicBezTo>
                  <a:pt x="14659" y="13585"/>
                  <a:pt x="14635" y="13552"/>
                  <a:pt x="14610" y="13519"/>
                </a:cubicBezTo>
              </a:path>
              <a:path w="2655" h="943">
                <a:moveTo>
                  <a:pt x="15577" y="12799"/>
                </a:moveTo>
                <a:cubicBezTo>
                  <a:pt x="15513" y="12928"/>
                  <a:pt x="15506" y="12943"/>
                  <a:pt x="15553" y="13072"/>
                </a:cubicBezTo>
                <a:cubicBezTo>
                  <a:pt x="15680" y="12976"/>
                  <a:pt x="15644" y="12920"/>
                  <a:pt x="15602" y="12774"/>
                </a:cubicBezTo>
                <a:cubicBezTo>
                  <a:pt x="15850" y="12726"/>
                  <a:pt x="16086" y="12756"/>
                  <a:pt x="16098" y="13072"/>
                </a:cubicBezTo>
                <a:cubicBezTo>
                  <a:pt x="16106" y="13277"/>
                  <a:pt x="15693" y="13688"/>
                  <a:pt x="15875" y="13593"/>
                </a:cubicBezTo>
                <a:cubicBezTo>
                  <a:pt x="15958" y="13543"/>
                  <a:pt x="16040" y="13494"/>
                  <a:pt x="16123" y="13444"/>
                </a:cubicBezTo>
              </a:path>
              <a:path w="2655" h="943">
                <a:moveTo>
                  <a:pt x="16321" y="13444"/>
                </a:moveTo>
                <a:cubicBezTo>
                  <a:pt x="16308" y="13644"/>
                  <a:pt x="16393" y="13609"/>
                  <a:pt x="16520" y="13494"/>
                </a:cubicBezTo>
                <a:cubicBezTo>
                  <a:pt x="16463" y="13409"/>
                  <a:pt x="16435" y="13382"/>
                  <a:pt x="16346" y="133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32160" y="3214800"/>
            <a:ext cx="2367000" cy="44280"/>
          </a:xfrm>
          <a:custGeom>
            <a:avLst/>
            <a:gdLst/>
            <a:ahLst/>
            <a:rect l="l" t="t" r="r" b="b"/>
            <a:pathLst>
              <a:path w="6575" h="125">
                <a:moveTo>
                  <a:pt x="11757" y="8930"/>
                </a:moveTo>
                <a:cubicBezTo>
                  <a:pt x="12868" y="8930"/>
                  <a:pt x="13971" y="8990"/>
                  <a:pt x="15081" y="9029"/>
                </a:cubicBezTo>
                <a:cubicBezTo>
                  <a:pt x="16001" y="9062"/>
                  <a:pt x="16915" y="9046"/>
                  <a:pt x="17835" y="9029"/>
                </a:cubicBezTo>
                <a:cubicBezTo>
                  <a:pt x="18009" y="9026"/>
                  <a:pt x="18132" y="9029"/>
                  <a:pt x="18306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12193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 is 30% of what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 is what percent of 16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number is 4% of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90760" y="2428920"/>
            <a:ext cx="573120" cy="277920"/>
          </a:xfrm>
          <a:custGeom>
            <a:avLst/>
            <a:gdLst/>
            <a:ahLst/>
            <a:rect l="l" t="t" r="r" b="b"/>
            <a:pathLst>
              <a:path w="1589" h="770">
                <a:moveTo>
                  <a:pt x="5283" y="7516"/>
                </a:moveTo>
                <a:cubicBezTo>
                  <a:pt x="5291" y="7516"/>
                  <a:pt x="5300" y="7516"/>
                  <a:pt x="5308" y="7516"/>
                </a:cubicBezTo>
              </a:path>
              <a:path w="1589" h="770">
                <a:moveTo>
                  <a:pt x="4192" y="6896"/>
                </a:moveTo>
                <a:cubicBezTo>
                  <a:pt x="4177" y="7034"/>
                  <a:pt x="4113" y="7203"/>
                  <a:pt x="4142" y="7342"/>
                </a:cubicBezTo>
                <a:cubicBezTo>
                  <a:pt x="4150" y="7342"/>
                  <a:pt x="4159" y="7342"/>
                  <a:pt x="4167" y="7342"/>
                </a:cubicBezTo>
              </a:path>
              <a:path w="1589" h="770">
                <a:moveTo>
                  <a:pt x="4911" y="6747"/>
                </a:moveTo>
                <a:cubicBezTo>
                  <a:pt x="4824" y="6760"/>
                  <a:pt x="4740" y="6792"/>
                  <a:pt x="4663" y="6821"/>
                </a:cubicBezTo>
                <a:cubicBezTo>
                  <a:pt x="4596" y="6846"/>
                  <a:pt x="4614" y="6862"/>
                  <a:pt x="4614" y="6921"/>
                </a:cubicBezTo>
                <a:cubicBezTo>
                  <a:pt x="4697" y="6973"/>
                  <a:pt x="4914" y="6984"/>
                  <a:pt x="4936" y="7094"/>
                </a:cubicBezTo>
                <a:cubicBezTo>
                  <a:pt x="4967" y="7251"/>
                  <a:pt x="4705" y="7374"/>
                  <a:pt x="4589" y="7293"/>
                </a:cubicBezTo>
                <a:cubicBezTo>
                  <a:pt x="4581" y="7268"/>
                  <a:pt x="4572" y="7243"/>
                  <a:pt x="4564" y="7218"/>
                </a:cubicBezTo>
              </a:path>
              <a:path w="1589" h="770">
                <a:moveTo>
                  <a:pt x="5407" y="6970"/>
                </a:moveTo>
                <a:cubicBezTo>
                  <a:pt x="5492" y="6970"/>
                  <a:pt x="5603" y="6969"/>
                  <a:pt x="5680" y="6995"/>
                </a:cubicBezTo>
                <a:cubicBezTo>
                  <a:pt x="5688" y="7003"/>
                  <a:pt x="5697" y="7012"/>
                  <a:pt x="5705" y="7020"/>
                </a:cubicBezTo>
              </a:path>
              <a:path w="1589" h="770">
                <a:moveTo>
                  <a:pt x="5407" y="7243"/>
                </a:moveTo>
                <a:cubicBezTo>
                  <a:pt x="5519" y="7238"/>
                  <a:pt x="5620" y="7227"/>
                  <a:pt x="5730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94000" y="2446200"/>
            <a:ext cx="285840" cy="216000"/>
          </a:xfrm>
          <a:custGeom>
            <a:avLst/>
            <a:gdLst/>
            <a:ahLst/>
            <a:rect l="l" t="t" r="r" b="b"/>
            <a:pathLst>
              <a:path w="794" h="597">
                <a:moveTo>
                  <a:pt x="6672" y="7367"/>
                </a:moveTo>
                <a:cubicBezTo>
                  <a:pt x="6628" y="7367"/>
                  <a:pt x="6713" y="7401"/>
                  <a:pt x="6747" y="7367"/>
                </a:cubicBezTo>
                <a:cubicBezTo>
                  <a:pt x="6747" y="7342"/>
                  <a:pt x="6747" y="7334"/>
                  <a:pt x="6722" y="7342"/>
                </a:cubicBezTo>
                <a:cubicBezTo>
                  <a:pt x="6771" y="7379"/>
                  <a:pt x="6757" y="7370"/>
                  <a:pt x="6821" y="7342"/>
                </a:cubicBezTo>
              </a:path>
              <a:path w="794" h="597">
                <a:moveTo>
                  <a:pt x="6945" y="6896"/>
                </a:moveTo>
                <a:cubicBezTo>
                  <a:pt x="6956" y="6862"/>
                  <a:pt x="7132" y="6798"/>
                  <a:pt x="7169" y="6796"/>
                </a:cubicBezTo>
                <a:cubicBezTo>
                  <a:pt x="7361" y="6787"/>
                  <a:pt x="7381" y="6951"/>
                  <a:pt x="7243" y="7045"/>
                </a:cubicBezTo>
                <a:cubicBezTo>
                  <a:pt x="7186" y="7063"/>
                  <a:pt x="7161" y="7089"/>
                  <a:pt x="7169" y="7045"/>
                </a:cubicBezTo>
                <a:cubicBezTo>
                  <a:pt x="7303" y="7045"/>
                  <a:pt x="7509" y="7027"/>
                  <a:pt x="7441" y="7243"/>
                </a:cubicBezTo>
                <a:cubicBezTo>
                  <a:pt x="7400" y="7372"/>
                  <a:pt x="7263" y="7390"/>
                  <a:pt x="7169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3880" y="2490840"/>
            <a:ext cx="135000" cy="1620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8235" y="7020"/>
                </a:moveTo>
                <a:cubicBezTo>
                  <a:pt x="8348" y="7106"/>
                  <a:pt x="8504" y="7195"/>
                  <a:pt x="8582" y="7317"/>
                </a:cubicBezTo>
                <a:cubicBezTo>
                  <a:pt x="8582" y="7342"/>
                  <a:pt x="8582" y="7350"/>
                  <a:pt x="8582" y="7317"/>
                </a:cubicBezTo>
              </a:path>
              <a:path w="373" h="447">
                <a:moveTo>
                  <a:pt x="8607" y="6921"/>
                </a:moveTo>
                <a:cubicBezTo>
                  <a:pt x="8513" y="7044"/>
                  <a:pt x="8447" y="7188"/>
                  <a:pt x="8359" y="7317"/>
                </a:cubicBezTo>
                <a:cubicBezTo>
                  <a:pt x="8336" y="7340"/>
                  <a:pt x="8328" y="7344"/>
                  <a:pt x="8334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75000" y="2490840"/>
            <a:ext cx="179280" cy="16200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9599" y="7020"/>
                </a:moveTo>
                <a:cubicBezTo>
                  <a:pt x="9599" y="7048"/>
                  <a:pt x="9601" y="7059"/>
                  <a:pt x="9624" y="7069"/>
                </a:cubicBezTo>
                <a:cubicBezTo>
                  <a:pt x="9624" y="7014"/>
                  <a:pt x="9623" y="6918"/>
                  <a:pt x="9550" y="6921"/>
                </a:cubicBezTo>
                <a:cubicBezTo>
                  <a:pt x="9379" y="6928"/>
                  <a:pt x="9307" y="7251"/>
                  <a:pt x="9451" y="7342"/>
                </a:cubicBezTo>
                <a:cubicBezTo>
                  <a:pt x="9583" y="7426"/>
                  <a:pt x="9751" y="7327"/>
                  <a:pt x="9872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57280" y="2768760"/>
            <a:ext cx="544680" cy="196560"/>
          </a:xfrm>
          <a:custGeom>
            <a:avLst/>
            <a:gdLst/>
            <a:ahLst/>
            <a:rect l="l" t="t" r="r" b="b"/>
            <a:pathLst>
              <a:path w="1515" h="547">
                <a:moveTo>
                  <a:pt x="6573" y="7764"/>
                </a:moveTo>
                <a:cubicBezTo>
                  <a:pt x="6457" y="7764"/>
                  <a:pt x="6755" y="7772"/>
                  <a:pt x="6871" y="7764"/>
                </a:cubicBezTo>
                <a:cubicBezTo>
                  <a:pt x="7170" y="7743"/>
                  <a:pt x="7463" y="7694"/>
                  <a:pt x="7764" y="7689"/>
                </a:cubicBezTo>
                <a:cubicBezTo>
                  <a:pt x="7863" y="7687"/>
                  <a:pt x="7963" y="7689"/>
                  <a:pt x="8062" y="7689"/>
                </a:cubicBezTo>
              </a:path>
              <a:path w="1515" h="547">
                <a:moveTo>
                  <a:pt x="6970" y="8186"/>
                </a:moveTo>
                <a:cubicBezTo>
                  <a:pt x="7031" y="8226"/>
                  <a:pt x="6947" y="8227"/>
                  <a:pt x="7045" y="8210"/>
                </a:cubicBezTo>
              </a:path>
              <a:path w="1515" h="547">
                <a:moveTo>
                  <a:pt x="7367" y="7838"/>
                </a:moveTo>
                <a:cubicBezTo>
                  <a:pt x="7453" y="7814"/>
                  <a:pt x="7683" y="7769"/>
                  <a:pt x="7516" y="7938"/>
                </a:cubicBezTo>
                <a:cubicBezTo>
                  <a:pt x="7508" y="7938"/>
                  <a:pt x="7499" y="7938"/>
                  <a:pt x="7491" y="7938"/>
                </a:cubicBezTo>
                <a:cubicBezTo>
                  <a:pt x="7532" y="7958"/>
                  <a:pt x="7702" y="7924"/>
                  <a:pt x="7714" y="8037"/>
                </a:cubicBezTo>
                <a:cubicBezTo>
                  <a:pt x="7731" y="8208"/>
                  <a:pt x="7495" y="8228"/>
                  <a:pt x="7392" y="82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47840" y="2697120"/>
            <a:ext cx="492120" cy="241200"/>
          </a:xfrm>
          <a:custGeom>
            <a:avLst/>
            <a:gdLst/>
            <a:ahLst/>
            <a:rect l="l" t="t" r="r" b="b"/>
            <a:pathLst>
              <a:path w="1365" h="671">
                <a:moveTo>
                  <a:pt x="3746" y="7590"/>
                </a:moveTo>
                <a:cubicBezTo>
                  <a:pt x="3761" y="7543"/>
                  <a:pt x="4283" y="7542"/>
                  <a:pt x="4291" y="7541"/>
                </a:cubicBezTo>
                <a:cubicBezTo>
                  <a:pt x="4556" y="7524"/>
                  <a:pt x="4820" y="7491"/>
                  <a:pt x="5085" y="7491"/>
                </a:cubicBezTo>
                <a:cubicBezTo>
                  <a:pt x="5093" y="7491"/>
                  <a:pt x="5102" y="7491"/>
                  <a:pt x="5110" y="7491"/>
                </a:cubicBezTo>
              </a:path>
              <a:path w="1365" h="671">
                <a:moveTo>
                  <a:pt x="4192" y="8062"/>
                </a:moveTo>
                <a:cubicBezTo>
                  <a:pt x="4192" y="8095"/>
                  <a:pt x="4192" y="8128"/>
                  <a:pt x="4192" y="8161"/>
                </a:cubicBezTo>
              </a:path>
              <a:path w="1365" h="671">
                <a:moveTo>
                  <a:pt x="4539" y="7689"/>
                </a:moveTo>
                <a:cubicBezTo>
                  <a:pt x="4611" y="7669"/>
                  <a:pt x="4861" y="7568"/>
                  <a:pt x="4812" y="7739"/>
                </a:cubicBezTo>
                <a:cubicBezTo>
                  <a:pt x="4766" y="7808"/>
                  <a:pt x="4753" y="7828"/>
                  <a:pt x="4713" y="7863"/>
                </a:cubicBezTo>
                <a:cubicBezTo>
                  <a:pt x="4809" y="7863"/>
                  <a:pt x="4966" y="7856"/>
                  <a:pt x="4911" y="8012"/>
                </a:cubicBezTo>
                <a:cubicBezTo>
                  <a:pt x="4868" y="8135"/>
                  <a:pt x="4735" y="8160"/>
                  <a:pt x="4638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88040" y="2071800"/>
            <a:ext cx="1509840" cy="3098520"/>
          </a:xfrm>
          <a:custGeom>
            <a:avLst/>
            <a:gdLst/>
            <a:ahLst/>
            <a:rect l="l" t="t" r="r" b="b"/>
            <a:pathLst>
              <a:path w="4193" h="8608">
                <a:moveTo>
                  <a:pt x="19670" y="6524"/>
                </a:moveTo>
                <a:cubicBezTo>
                  <a:pt x="19692" y="6663"/>
                  <a:pt x="19709" y="6804"/>
                  <a:pt x="19720" y="6945"/>
                </a:cubicBezTo>
                <a:cubicBezTo>
                  <a:pt x="19720" y="6953"/>
                  <a:pt x="19720" y="6962"/>
                  <a:pt x="19720" y="6970"/>
                </a:cubicBezTo>
              </a:path>
              <a:path w="4193" h="8608">
                <a:moveTo>
                  <a:pt x="20265" y="6499"/>
                </a:moveTo>
                <a:cubicBezTo>
                  <a:pt x="20212" y="6510"/>
                  <a:pt x="20162" y="6524"/>
                  <a:pt x="20117" y="6548"/>
                </a:cubicBezTo>
                <a:cubicBezTo>
                  <a:pt x="20047" y="6585"/>
                  <a:pt x="20052" y="6575"/>
                  <a:pt x="20042" y="6648"/>
                </a:cubicBezTo>
                <a:cubicBezTo>
                  <a:pt x="20060" y="6699"/>
                  <a:pt x="20228" y="6642"/>
                  <a:pt x="20290" y="6648"/>
                </a:cubicBezTo>
                <a:cubicBezTo>
                  <a:pt x="20447" y="6664"/>
                  <a:pt x="20500" y="6827"/>
                  <a:pt x="20340" y="6896"/>
                </a:cubicBezTo>
                <a:cubicBezTo>
                  <a:pt x="20224" y="6919"/>
                  <a:pt x="20191" y="6930"/>
                  <a:pt x="20117" y="6896"/>
                </a:cubicBezTo>
              </a:path>
              <a:path w="4193" h="8608">
                <a:moveTo>
                  <a:pt x="19348" y="7020"/>
                </a:moveTo>
                <a:cubicBezTo>
                  <a:pt x="19348" y="6805"/>
                  <a:pt x="19348" y="6590"/>
                  <a:pt x="19348" y="6375"/>
                </a:cubicBezTo>
                <a:cubicBezTo>
                  <a:pt x="19587" y="6347"/>
                  <a:pt x="19824" y="6359"/>
                  <a:pt x="20067" y="6350"/>
                </a:cubicBezTo>
                <a:cubicBezTo>
                  <a:pt x="20358" y="6339"/>
                  <a:pt x="20644" y="6325"/>
                  <a:pt x="20935" y="6325"/>
                </a:cubicBezTo>
              </a:path>
              <a:path w="4193" h="8608">
                <a:moveTo>
                  <a:pt x="18380" y="6945"/>
                </a:moveTo>
                <a:cubicBezTo>
                  <a:pt x="18388" y="6945"/>
                  <a:pt x="18397" y="6945"/>
                  <a:pt x="18405" y="6945"/>
                </a:cubicBezTo>
                <a:cubicBezTo>
                  <a:pt x="18405" y="6977"/>
                  <a:pt x="18402" y="7035"/>
                  <a:pt x="18455" y="7020"/>
                </a:cubicBezTo>
                <a:cubicBezTo>
                  <a:pt x="18471" y="7012"/>
                  <a:pt x="18488" y="7003"/>
                  <a:pt x="18504" y="6995"/>
                </a:cubicBezTo>
              </a:path>
              <a:path w="4193" h="8608">
                <a:moveTo>
                  <a:pt x="18777" y="6598"/>
                </a:moveTo>
                <a:cubicBezTo>
                  <a:pt x="18848" y="6509"/>
                  <a:pt x="18901" y="6516"/>
                  <a:pt x="19000" y="6573"/>
                </a:cubicBezTo>
                <a:cubicBezTo>
                  <a:pt x="18972" y="6660"/>
                  <a:pt x="18965" y="6699"/>
                  <a:pt x="18901" y="6747"/>
                </a:cubicBezTo>
                <a:cubicBezTo>
                  <a:pt x="18980" y="6747"/>
                  <a:pt x="18994" y="6765"/>
                  <a:pt x="19050" y="6821"/>
                </a:cubicBezTo>
                <a:cubicBezTo>
                  <a:pt x="19016" y="6867"/>
                  <a:pt x="18942" y="6983"/>
                  <a:pt x="18876" y="6970"/>
                </a:cubicBezTo>
                <a:cubicBezTo>
                  <a:pt x="18868" y="6962"/>
                  <a:pt x="18860" y="6953"/>
                  <a:pt x="18852" y="6945"/>
                </a:cubicBezTo>
              </a:path>
              <a:path w="4193" h="8608">
                <a:moveTo>
                  <a:pt x="18479" y="7069"/>
                </a:moveTo>
                <a:cubicBezTo>
                  <a:pt x="18536" y="7103"/>
                  <a:pt x="18573" y="7169"/>
                  <a:pt x="18653" y="7193"/>
                </a:cubicBezTo>
                <a:cubicBezTo>
                  <a:pt x="18699" y="7207"/>
                  <a:pt x="18755" y="7233"/>
                  <a:pt x="18802" y="7243"/>
                </a:cubicBezTo>
                <a:cubicBezTo>
                  <a:pt x="18867" y="7257"/>
                  <a:pt x="18943" y="7244"/>
                  <a:pt x="19000" y="7218"/>
                </a:cubicBezTo>
                <a:cubicBezTo>
                  <a:pt x="19050" y="7195"/>
                  <a:pt x="19097" y="7165"/>
                  <a:pt x="19124" y="7144"/>
                </a:cubicBezTo>
                <a:cubicBezTo>
                  <a:pt x="19160" y="7117"/>
                  <a:pt x="19149" y="7085"/>
                  <a:pt x="19149" y="7045"/>
                </a:cubicBezTo>
                <a:cubicBezTo>
                  <a:pt x="19149" y="6951"/>
                  <a:pt x="19140" y="7042"/>
                  <a:pt x="19149" y="7045"/>
                </a:cubicBezTo>
                <a:cubicBezTo>
                  <a:pt x="19220" y="7073"/>
                  <a:pt x="19213" y="6977"/>
                  <a:pt x="19199" y="6970"/>
                </a:cubicBezTo>
                <a:cubicBezTo>
                  <a:pt x="19158" y="6980"/>
                  <a:pt x="19159" y="6979"/>
                  <a:pt x="19149" y="7020"/>
                </a:cubicBezTo>
                <a:cubicBezTo>
                  <a:pt x="19191" y="7037"/>
                  <a:pt x="19281" y="7002"/>
                  <a:pt x="19224" y="6945"/>
                </a:cubicBezTo>
                <a:cubicBezTo>
                  <a:pt x="19174" y="6895"/>
                  <a:pt x="19156" y="6973"/>
                  <a:pt x="19149" y="6995"/>
                </a:cubicBezTo>
                <a:cubicBezTo>
                  <a:pt x="19190" y="6985"/>
                  <a:pt x="19189" y="6986"/>
                  <a:pt x="19199" y="6945"/>
                </a:cubicBezTo>
                <a:cubicBezTo>
                  <a:pt x="19162" y="6963"/>
                  <a:pt x="19158" y="6974"/>
                  <a:pt x="19149" y="7020"/>
                </a:cubicBezTo>
              </a:path>
              <a:path w="4193" h="8608">
                <a:moveTo>
                  <a:pt x="20613" y="6921"/>
                </a:moveTo>
                <a:lnTo>
                  <a:pt x="20613" y="6921"/>
                </a:lnTo>
              </a:path>
              <a:path w="4193" h="8608">
                <a:moveTo>
                  <a:pt x="20638" y="6921"/>
                </a:moveTo>
                <a:lnTo>
                  <a:pt x="20638" y="6921"/>
                </a:lnTo>
              </a:path>
              <a:path w="4193" h="8608">
                <a:moveTo>
                  <a:pt x="20638" y="6921"/>
                </a:moveTo>
                <a:lnTo>
                  <a:pt x="20638" y="6921"/>
                </a:lnTo>
              </a:path>
              <a:path w="4193" h="8608">
                <a:moveTo>
                  <a:pt x="20638" y="6945"/>
                </a:moveTo>
                <a:cubicBezTo>
                  <a:pt x="20638" y="7017"/>
                  <a:pt x="20643" y="7080"/>
                  <a:pt x="20662" y="7119"/>
                </a:cubicBezTo>
                <a:cubicBezTo>
                  <a:pt x="20672" y="7140"/>
                  <a:pt x="20727" y="7157"/>
                  <a:pt x="20762" y="7169"/>
                </a:cubicBezTo>
                <a:cubicBezTo>
                  <a:pt x="20828" y="7191"/>
                  <a:pt x="20908" y="7161"/>
                  <a:pt x="20960" y="7144"/>
                </a:cubicBezTo>
                <a:cubicBezTo>
                  <a:pt x="21010" y="7127"/>
                  <a:pt x="21015" y="7138"/>
                  <a:pt x="21059" y="7094"/>
                </a:cubicBezTo>
                <a:cubicBezTo>
                  <a:pt x="21088" y="7065"/>
                  <a:pt x="21122" y="7031"/>
                  <a:pt x="21134" y="6995"/>
                </a:cubicBezTo>
                <a:cubicBezTo>
                  <a:pt x="21147" y="6956"/>
                  <a:pt x="21170" y="6935"/>
                  <a:pt x="21158" y="6896"/>
                </a:cubicBezTo>
                <a:cubicBezTo>
                  <a:pt x="21148" y="6864"/>
                  <a:pt x="21131" y="6853"/>
                  <a:pt x="21109" y="6846"/>
                </a:cubicBezTo>
                <a:cubicBezTo>
                  <a:pt x="21078" y="6862"/>
                  <a:pt x="21109" y="6883"/>
                  <a:pt x="21109" y="6821"/>
                </a:cubicBezTo>
                <a:cubicBezTo>
                  <a:pt x="21109" y="6790"/>
                  <a:pt x="21073" y="6825"/>
                  <a:pt x="21059" y="6846"/>
                </a:cubicBezTo>
                <a:cubicBezTo>
                  <a:pt x="21059" y="6854"/>
                  <a:pt x="21059" y="6863"/>
                  <a:pt x="21059" y="6871"/>
                </a:cubicBezTo>
                <a:cubicBezTo>
                  <a:pt x="21072" y="6868"/>
                  <a:pt x="21166" y="6828"/>
                  <a:pt x="21134" y="6796"/>
                </a:cubicBezTo>
                <a:cubicBezTo>
                  <a:pt x="21122" y="6784"/>
                  <a:pt x="21098" y="6816"/>
                  <a:pt x="21084" y="6821"/>
                </a:cubicBezTo>
              </a:path>
              <a:path w="4193" h="8608">
                <a:moveTo>
                  <a:pt x="20811" y="6375"/>
                </a:moveTo>
                <a:cubicBezTo>
                  <a:pt x="20827" y="6326"/>
                  <a:pt x="20953" y="6314"/>
                  <a:pt x="21010" y="6300"/>
                </a:cubicBezTo>
                <a:cubicBezTo>
                  <a:pt x="21092" y="6280"/>
                  <a:pt x="21107" y="6272"/>
                  <a:pt x="21158" y="6276"/>
                </a:cubicBezTo>
              </a:path>
              <a:path w="4193" h="8608">
                <a:moveTo>
                  <a:pt x="20662" y="6573"/>
                </a:moveTo>
                <a:cubicBezTo>
                  <a:pt x="20662" y="6500"/>
                  <a:pt x="20638" y="6738"/>
                  <a:pt x="20638" y="6747"/>
                </a:cubicBezTo>
                <a:cubicBezTo>
                  <a:pt x="20633" y="6885"/>
                  <a:pt x="20759" y="6856"/>
                  <a:pt x="20836" y="6796"/>
                </a:cubicBezTo>
                <a:cubicBezTo>
                  <a:pt x="20934" y="6719"/>
                  <a:pt x="20987" y="6615"/>
                  <a:pt x="20861" y="6548"/>
                </a:cubicBezTo>
                <a:cubicBezTo>
                  <a:pt x="20780" y="6504"/>
                  <a:pt x="20796" y="6534"/>
                  <a:pt x="20737" y="6548"/>
                </a:cubicBezTo>
              </a:path>
              <a:path w="4193" h="8608">
                <a:moveTo>
                  <a:pt x="21059" y="6077"/>
                </a:moveTo>
                <a:cubicBezTo>
                  <a:pt x="21035" y="6085"/>
                  <a:pt x="20962" y="6157"/>
                  <a:pt x="20985" y="6201"/>
                </a:cubicBezTo>
                <a:cubicBezTo>
                  <a:pt x="21001" y="6232"/>
                  <a:pt x="21040" y="6181"/>
                  <a:pt x="21059" y="6152"/>
                </a:cubicBezTo>
                <a:cubicBezTo>
                  <a:pt x="21012" y="6120"/>
                  <a:pt x="21034" y="6153"/>
                  <a:pt x="21034" y="6201"/>
                </a:cubicBezTo>
              </a:path>
              <a:path w="4193" h="8608">
                <a:moveTo>
                  <a:pt x="20265" y="5755"/>
                </a:moveTo>
                <a:cubicBezTo>
                  <a:pt x="20234" y="5767"/>
                  <a:pt x="20069" y="5821"/>
                  <a:pt x="20042" y="5854"/>
                </a:cubicBezTo>
                <a:cubicBezTo>
                  <a:pt x="20019" y="5882"/>
                  <a:pt x="20017" y="5961"/>
                  <a:pt x="20017" y="6003"/>
                </a:cubicBezTo>
                <a:cubicBezTo>
                  <a:pt x="20101" y="5979"/>
                  <a:pt x="20251" y="5873"/>
                  <a:pt x="20340" y="5953"/>
                </a:cubicBezTo>
                <a:cubicBezTo>
                  <a:pt x="20495" y="6092"/>
                  <a:pt x="20209" y="6149"/>
                  <a:pt x="20141" y="6152"/>
                </a:cubicBezTo>
                <a:cubicBezTo>
                  <a:pt x="20133" y="6152"/>
                  <a:pt x="20125" y="6152"/>
                  <a:pt x="20117" y="6152"/>
                </a:cubicBezTo>
              </a:path>
              <a:path w="4193" h="8608">
                <a:moveTo>
                  <a:pt x="19819" y="7144"/>
                </a:moveTo>
                <a:cubicBezTo>
                  <a:pt x="19789" y="7159"/>
                  <a:pt x="19854" y="7276"/>
                  <a:pt x="19869" y="7342"/>
                </a:cubicBezTo>
                <a:cubicBezTo>
                  <a:pt x="19877" y="7379"/>
                  <a:pt x="19878" y="7367"/>
                  <a:pt x="19918" y="7367"/>
                </a:cubicBezTo>
              </a:path>
              <a:path w="4193" h="8608">
                <a:moveTo>
                  <a:pt x="20315" y="7020"/>
                </a:moveTo>
                <a:cubicBezTo>
                  <a:pt x="20270" y="7029"/>
                  <a:pt x="20225" y="7039"/>
                  <a:pt x="20191" y="7069"/>
                </a:cubicBezTo>
                <a:cubicBezTo>
                  <a:pt x="20183" y="7077"/>
                  <a:pt x="20174" y="7086"/>
                  <a:pt x="20166" y="7094"/>
                </a:cubicBezTo>
                <a:cubicBezTo>
                  <a:pt x="20185" y="7150"/>
                  <a:pt x="20244" y="7141"/>
                  <a:pt x="20315" y="7144"/>
                </a:cubicBezTo>
                <a:cubicBezTo>
                  <a:pt x="20340" y="7144"/>
                  <a:pt x="20364" y="7144"/>
                  <a:pt x="20389" y="7144"/>
                </a:cubicBezTo>
                <a:cubicBezTo>
                  <a:pt x="20389" y="7246"/>
                  <a:pt x="20365" y="7280"/>
                  <a:pt x="20265" y="7317"/>
                </a:cubicBezTo>
                <a:cubicBezTo>
                  <a:pt x="20257" y="7317"/>
                  <a:pt x="20249" y="7317"/>
                  <a:pt x="20241" y="7317"/>
                </a:cubicBezTo>
              </a:path>
              <a:path w="4193" h="8608">
                <a:moveTo>
                  <a:pt x="19596" y="7590"/>
                </a:moveTo>
                <a:cubicBezTo>
                  <a:pt x="19870" y="7541"/>
                  <a:pt x="20143" y="7460"/>
                  <a:pt x="20414" y="7392"/>
                </a:cubicBezTo>
                <a:cubicBezTo>
                  <a:pt x="20551" y="7358"/>
                  <a:pt x="20565" y="7342"/>
                  <a:pt x="20662" y="7342"/>
                </a:cubicBezTo>
              </a:path>
              <a:path w="4193" h="8608">
                <a:moveTo>
                  <a:pt x="19422" y="7417"/>
                </a:moveTo>
                <a:cubicBezTo>
                  <a:pt x="19527" y="7355"/>
                  <a:pt x="19605" y="7346"/>
                  <a:pt x="19720" y="7317"/>
                </a:cubicBezTo>
              </a:path>
              <a:path w="4193" h="8608">
                <a:moveTo>
                  <a:pt x="20439" y="7565"/>
                </a:moveTo>
                <a:cubicBezTo>
                  <a:pt x="20439" y="7557"/>
                  <a:pt x="20439" y="7549"/>
                  <a:pt x="20439" y="7541"/>
                </a:cubicBezTo>
                <a:cubicBezTo>
                  <a:pt x="20351" y="7541"/>
                  <a:pt x="20315" y="7659"/>
                  <a:pt x="20315" y="7739"/>
                </a:cubicBezTo>
                <a:cubicBezTo>
                  <a:pt x="20315" y="7912"/>
                  <a:pt x="20470" y="7858"/>
                  <a:pt x="20563" y="7789"/>
                </a:cubicBezTo>
                <a:cubicBezTo>
                  <a:pt x="20664" y="7714"/>
                  <a:pt x="20713" y="7603"/>
                  <a:pt x="20588" y="7541"/>
                </a:cubicBezTo>
                <a:cubicBezTo>
                  <a:pt x="20555" y="7541"/>
                  <a:pt x="20546" y="7533"/>
                  <a:pt x="20563" y="7491"/>
                </a:cubicBezTo>
              </a:path>
              <a:path w="4193" h="8608">
                <a:moveTo>
                  <a:pt x="20836" y="7119"/>
                </a:moveTo>
                <a:cubicBezTo>
                  <a:pt x="20836" y="7094"/>
                  <a:pt x="20836" y="7086"/>
                  <a:pt x="20836" y="7069"/>
                </a:cubicBezTo>
                <a:cubicBezTo>
                  <a:pt x="20836" y="7138"/>
                  <a:pt x="20836" y="7232"/>
                  <a:pt x="20861" y="7293"/>
                </a:cubicBezTo>
                <a:cubicBezTo>
                  <a:pt x="20869" y="7301"/>
                  <a:pt x="20878" y="7309"/>
                  <a:pt x="20886" y="7317"/>
                </a:cubicBezTo>
              </a:path>
              <a:path w="4193" h="8608">
                <a:moveTo>
                  <a:pt x="20985" y="7491"/>
                </a:moveTo>
                <a:cubicBezTo>
                  <a:pt x="20944" y="7593"/>
                  <a:pt x="20848" y="7629"/>
                  <a:pt x="20861" y="7764"/>
                </a:cubicBezTo>
                <a:cubicBezTo>
                  <a:pt x="20869" y="7772"/>
                  <a:pt x="20878" y="7781"/>
                  <a:pt x="20886" y="7789"/>
                </a:cubicBezTo>
                <a:cubicBezTo>
                  <a:pt x="20982" y="7799"/>
                  <a:pt x="21065" y="7741"/>
                  <a:pt x="21059" y="7615"/>
                </a:cubicBezTo>
                <a:cubicBezTo>
                  <a:pt x="21039" y="7575"/>
                  <a:pt x="21041" y="7558"/>
                  <a:pt x="21010" y="7565"/>
                </a:cubicBezTo>
              </a:path>
              <a:path w="4193" h="8608">
                <a:moveTo>
                  <a:pt x="20638" y="5779"/>
                </a:moveTo>
                <a:cubicBezTo>
                  <a:pt x="20562" y="5724"/>
                  <a:pt x="20528" y="5810"/>
                  <a:pt x="20513" y="5904"/>
                </a:cubicBezTo>
                <a:cubicBezTo>
                  <a:pt x="20513" y="6037"/>
                  <a:pt x="20509" y="6072"/>
                  <a:pt x="20538" y="6152"/>
                </a:cubicBezTo>
                <a:cubicBezTo>
                  <a:pt x="20664" y="6164"/>
                  <a:pt x="20754" y="6107"/>
                  <a:pt x="20737" y="5953"/>
                </a:cubicBezTo>
                <a:cubicBezTo>
                  <a:pt x="20729" y="5882"/>
                  <a:pt x="20630" y="5803"/>
                  <a:pt x="20588" y="5779"/>
                </a:cubicBezTo>
                <a:cubicBezTo>
                  <a:pt x="20555" y="5779"/>
                  <a:pt x="20546" y="5787"/>
                  <a:pt x="20563" y="5829"/>
                </a:cubicBezTo>
              </a:path>
              <a:path w="4193" h="8608">
                <a:moveTo>
                  <a:pt x="21059" y="7987"/>
                </a:moveTo>
                <a:cubicBezTo>
                  <a:pt x="21015" y="7953"/>
                  <a:pt x="20988" y="7951"/>
                  <a:pt x="20935" y="7987"/>
                </a:cubicBezTo>
                <a:cubicBezTo>
                  <a:pt x="20900" y="8010"/>
                  <a:pt x="20900" y="8027"/>
                  <a:pt x="20861" y="8037"/>
                </a:cubicBezTo>
                <a:cubicBezTo>
                  <a:pt x="20888" y="8091"/>
                  <a:pt x="20930" y="8192"/>
                  <a:pt x="21010" y="8186"/>
                </a:cubicBezTo>
                <a:cubicBezTo>
                  <a:pt x="21080" y="8181"/>
                  <a:pt x="21116" y="8116"/>
                  <a:pt x="21158" y="8062"/>
                </a:cubicBezTo>
                <a:cubicBezTo>
                  <a:pt x="21197" y="8012"/>
                  <a:pt x="21172" y="7975"/>
                  <a:pt x="21109" y="7938"/>
                </a:cubicBezTo>
                <a:cubicBezTo>
                  <a:pt x="21101" y="7933"/>
                  <a:pt x="21039" y="7920"/>
                  <a:pt x="21034" y="7913"/>
                </a:cubicBezTo>
                <a:cubicBezTo>
                  <a:pt x="21034" y="7885"/>
                  <a:pt x="21032" y="7879"/>
                  <a:pt x="21010" y="7913"/>
                </a:cubicBezTo>
              </a:path>
              <a:path w="4193" h="8608">
                <a:moveTo>
                  <a:pt x="20315" y="8359"/>
                </a:moveTo>
                <a:cubicBezTo>
                  <a:pt x="20557" y="8359"/>
                  <a:pt x="20772" y="8299"/>
                  <a:pt x="21010" y="8260"/>
                </a:cubicBezTo>
                <a:cubicBezTo>
                  <a:pt x="21114" y="8243"/>
                  <a:pt x="21227" y="8225"/>
                  <a:pt x="21332" y="8210"/>
                </a:cubicBezTo>
              </a:path>
              <a:path w="4193" h="8608">
                <a:moveTo>
                  <a:pt x="21208" y="8409"/>
                </a:moveTo>
                <a:cubicBezTo>
                  <a:pt x="21148" y="8424"/>
                  <a:pt x="21033" y="8509"/>
                  <a:pt x="21059" y="8582"/>
                </a:cubicBezTo>
                <a:cubicBezTo>
                  <a:pt x="21117" y="8746"/>
                  <a:pt x="21270" y="8600"/>
                  <a:pt x="21332" y="8558"/>
                </a:cubicBezTo>
                <a:cubicBezTo>
                  <a:pt x="21380" y="8534"/>
                  <a:pt x="21397" y="8528"/>
                  <a:pt x="21382" y="8483"/>
                </a:cubicBezTo>
                <a:cubicBezTo>
                  <a:pt x="21339" y="8420"/>
                  <a:pt x="21291" y="8396"/>
                  <a:pt x="21208" y="8384"/>
                </a:cubicBezTo>
                <a:cubicBezTo>
                  <a:pt x="21200" y="8384"/>
                  <a:pt x="21191" y="8384"/>
                  <a:pt x="21183" y="8384"/>
                </a:cubicBezTo>
              </a:path>
              <a:path w="4193" h="8608">
                <a:moveTo>
                  <a:pt x="18703" y="9649"/>
                </a:moveTo>
                <a:cubicBezTo>
                  <a:pt x="18780" y="9664"/>
                  <a:pt x="18843" y="9674"/>
                  <a:pt x="18926" y="9674"/>
                </a:cubicBezTo>
                <a:cubicBezTo>
                  <a:pt x="19077" y="9674"/>
                  <a:pt x="19222" y="9634"/>
                  <a:pt x="19372" y="9624"/>
                </a:cubicBezTo>
                <a:cubicBezTo>
                  <a:pt x="19641" y="9606"/>
                  <a:pt x="19932" y="9664"/>
                  <a:pt x="20191" y="9599"/>
                </a:cubicBezTo>
                <a:cubicBezTo>
                  <a:pt x="20199" y="9599"/>
                  <a:pt x="20208" y="9599"/>
                  <a:pt x="20216" y="9599"/>
                </a:cubicBezTo>
              </a:path>
              <a:path w="4193" h="8608">
                <a:moveTo>
                  <a:pt x="18628" y="9401"/>
                </a:moveTo>
                <a:lnTo>
                  <a:pt x="18628" y="9401"/>
                </a:lnTo>
              </a:path>
              <a:path w="4193" h="8608">
                <a:moveTo>
                  <a:pt x="18628" y="9426"/>
                </a:moveTo>
                <a:cubicBezTo>
                  <a:pt x="18621" y="9472"/>
                  <a:pt x="18575" y="9581"/>
                  <a:pt x="18678" y="9575"/>
                </a:cubicBezTo>
                <a:cubicBezTo>
                  <a:pt x="18778" y="9569"/>
                  <a:pt x="18739" y="9377"/>
                  <a:pt x="18678" y="9451"/>
                </a:cubicBezTo>
                <a:cubicBezTo>
                  <a:pt x="18661" y="9476"/>
                  <a:pt x="18645" y="9500"/>
                  <a:pt x="18628" y="9525"/>
                </a:cubicBezTo>
                <a:cubicBezTo>
                  <a:pt x="18628" y="9577"/>
                  <a:pt x="18630" y="9593"/>
                  <a:pt x="18678" y="9550"/>
                </a:cubicBezTo>
                <a:cubicBezTo>
                  <a:pt x="18702" y="9431"/>
                  <a:pt x="18698" y="9444"/>
                  <a:pt x="18628" y="9525"/>
                </a:cubicBezTo>
              </a:path>
              <a:path w="4193" h="8608">
                <a:moveTo>
                  <a:pt x="19100" y="9996"/>
                </a:moveTo>
                <a:cubicBezTo>
                  <a:pt x="18994" y="9954"/>
                  <a:pt x="18951" y="10122"/>
                  <a:pt x="18951" y="10220"/>
                </a:cubicBezTo>
                <a:cubicBezTo>
                  <a:pt x="18972" y="10325"/>
                  <a:pt x="18967" y="10353"/>
                  <a:pt x="19025" y="10393"/>
                </a:cubicBezTo>
                <a:cubicBezTo>
                  <a:pt x="19203" y="10372"/>
                  <a:pt x="19339" y="10339"/>
                  <a:pt x="19323" y="10120"/>
                </a:cubicBezTo>
                <a:cubicBezTo>
                  <a:pt x="19316" y="10024"/>
                  <a:pt x="19162" y="9942"/>
                  <a:pt x="19075" y="9971"/>
                </a:cubicBezTo>
                <a:cubicBezTo>
                  <a:pt x="19075" y="9979"/>
                  <a:pt x="19075" y="9988"/>
                  <a:pt x="19075" y="9996"/>
                </a:cubicBezTo>
              </a:path>
              <a:path w="4193" h="8608">
                <a:moveTo>
                  <a:pt x="19100" y="9029"/>
                </a:moveTo>
                <a:cubicBezTo>
                  <a:pt x="19100" y="9021"/>
                  <a:pt x="19100" y="9012"/>
                  <a:pt x="19100" y="9004"/>
                </a:cubicBezTo>
              </a:path>
              <a:path w="4193" h="8608">
                <a:moveTo>
                  <a:pt x="19100" y="8979"/>
                </a:moveTo>
                <a:lnTo>
                  <a:pt x="19100" y="8979"/>
                </a:lnTo>
              </a:path>
              <a:path w="4193" h="8608">
                <a:moveTo>
                  <a:pt x="19100" y="8979"/>
                </a:moveTo>
                <a:lnTo>
                  <a:pt x="19100" y="8979"/>
                </a:lnTo>
              </a:path>
              <a:path w="4193" h="8608">
                <a:moveTo>
                  <a:pt x="19100" y="9004"/>
                </a:moveTo>
                <a:lnTo>
                  <a:pt x="19100" y="9004"/>
                </a:lnTo>
              </a:path>
              <a:path w="4193" h="8608">
                <a:moveTo>
                  <a:pt x="19100" y="9029"/>
                </a:moveTo>
                <a:cubicBezTo>
                  <a:pt x="19129" y="9179"/>
                  <a:pt x="19151" y="9328"/>
                  <a:pt x="19174" y="9475"/>
                </a:cubicBezTo>
                <a:cubicBezTo>
                  <a:pt x="19174" y="9503"/>
                  <a:pt x="19176" y="9514"/>
                  <a:pt x="19199" y="9525"/>
                </a:cubicBezTo>
              </a:path>
              <a:path w="4193" h="8608">
                <a:moveTo>
                  <a:pt x="17859" y="10740"/>
                </a:moveTo>
                <a:cubicBezTo>
                  <a:pt x="17877" y="10883"/>
                  <a:pt x="17884" y="11017"/>
                  <a:pt x="17884" y="11162"/>
                </a:cubicBezTo>
                <a:cubicBezTo>
                  <a:pt x="17884" y="11154"/>
                  <a:pt x="17884" y="11145"/>
                  <a:pt x="17884" y="11137"/>
                </a:cubicBezTo>
              </a:path>
              <a:path w="4193" h="8608">
                <a:moveTo>
                  <a:pt x="18355" y="10716"/>
                </a:moveTo>
                <a:cubicBezTo>
                  <a:pt x="18350" y="10800"/>
                  <a:pt x="18285" y="11062"/>
                  <a:pt x="18430" y="11088"/>
                </a:cubicBezTo>
                <a:cubicBezTo>
                  <a:pt x="18564" y="11112"/>
                  <a:pt x="18650" y="10962"/>
                  <a:pt x="18678" y="10864"/>
                </a:cubicBezTo>
                <a:cubicBezTo>
                  <a:pt x="18577" y="10908"/>
                  <a:pt x="18475" y="10957"/>
                  <a:pt x="18529" y="11063"/>
                </a:cubicBezTo>
              </a:path>
              <a:path w="4193" h="8608">
                <a:moveTo>
                  <a:pt x="18976" y="10740"/>
                </a:moveTo>
                <a:cubicBezTo>
                  <a:pt x="18964" y="10851"/>
                  <a:pt x="18949" y="11071"/>
                  <a:pt x="19149" y="10964"/>
                </a:cubicBezTo>
                <a:cubicBezTo>
                  <a:pt x="19223" y="10890"/>
                  <a:pt x="19248" y="10866"/>
                  <a:pt x="19248" y="10790"/>
                </a:cubicBezTo>
                <a:cubicBezTo>
                  <a:pt x="19143" y="10663"/>
                  <a:pt x="19158" y="10691"/>
                  <a:pt x="18976" y="10691"/>
                </a:cubicBezTo>
              </a:path>
              <a:path w="4193" h="8608">
                <a:moveTo>
                  <a:pt x="17190" y="10988"/>
                </a:moveTo>
                <a:cubicBezTo>
                  <a:pt x="17314" y="10976"/>
                  <a:pt x="17412" y="10981"/>
                  <a:pt x="17537" y="10988"/>
                </a:cubicBezTo>
              </a:path>
              <a:path w="4193" h="8608">
                <a:moveTo>
                  <a:pt x="17214" y="11385"/>
                </a:moveTo>
                <a:cubicBezTo>
                  <a:pt x="17703" y="11325"/>
                  <a:pt x="18191" y="11258"/>
                  <a:pt x="18678" y="11187"/>
                </a:cubicBezTo>
                <a:cubicBezTo>
                  <a:pt x="18868" y="11159"/>
                  <a:pt x="19014" y="11137"/>
                  <a:pt x="19199" y="11137"/>
                </a:cubicBezTo>
              </a:path>
              <a:path w="4193" h="8608">
                <a:moveTo>
                  <a:pt x="18554" y="11311"/>
                </a:moveTo>
                <a:cubicBezTo>
                  <a:pt x="18606" y="11294"/>
                  <a:pt x="18579" y="11306"/>
                  <a:pt x="18579" y="11385"/>
                </a:cubicBezTo>
                <a:cubicBezTo>
                  <a:pt x="18579" y="11476"/>
                  <a:pt x="18579" y="11501"/>
                  <a:pt x="18579" y="11559"/>
                </a:cubicBezTo>
                <a:cubicBezTo>
                  <a:pt x="18708" y="11532"/>
                  <a:pt x="18826" y="11502"/>
                  <a:pt x="18951" y="11460"/>
                </a:cubicBezTo>
              </a:path>
              <a:path w="4193" h="8608">
                <a:moveTo>
                  <a:pt x="18876" y="11261"/>
                </a:moveTo>
                <a:cubicBezTo>
                  <a:pt x="18857" y="11416"/>
                  <a:pt x="18855" y="11529"/>
                  <a:pt x="18876" y="11683"/>
                </a:cubicBezTo>
              </a:path>
              <a:path w="4193" h="8608">
                <a:moveTo>
                  <a:pt x="19124" y="11261"/>
                </a:moveTo>
                <a:cubicBezTo>
                  <a:pt x="19084" y="11421"/>
                  <a:pt x="19073" y="11496"/>
                  <a:pt x="19100" y="11658"/>
                </a:cubicBezTo>
                <a:cubicBezTo>
                  <a:pt x="19279" y="11669"/>
                  <a:pt x="19384" y="11623"/>
                  <a:pt x="19323" y="11410"/>
                </a:cubicBezTo>
                <a:cubicBezTo>
                  <a:pt x="19270" y="11304"/>
                  <a:pt x="19246" y="11268"/>
                  <a:pt x="19149" y="11261"/>
                </a:cubicBezTo>
              </a:path>
              <a:path w="4193" h="8608">
                <a:moveTo>
                  <a:pt x="19571" y="10021"/>
                </a:moveTo>
                <a:cubicBezTo>
                  <a:pt x="19532" y="9944"/>
                  <a:pt x="19525" y="10136"/>
                  <a:pt x="19546" y="10220"/>
                </a:cubicBezTo>
                <a:cubicBezTo>
                  <a:pt x="19598" y="10425"/>
                  <a:pt x="19843" y="10304"/>
                  <a:pt x="19869" y="10145"/>
                </a:cubicBezTo>
                <a:cubicBezTo>
                  <a:pt x="19900" y="9955"/>
                  <a:pt x="19667" y="10028"/>
                  <a:pt x="19596" y="10071"/>
                </a:cubicBezTo>
              </a:path>
              <a:path w="4193" h="8608">
                <a:moveTo>
                  <a:pt x="19720" y="10468"/>
                </a:moveTo>
                <a:cubicBezTo>
                  <a:pt x="19720" y="10399"/>
                  <a:pt x="19810" y="10740"/>
                  <a:pt x="19819" y="10765"/>
                </a:cubicBezTo>
                <a:cubicBezTo>
                  <a:pt x="19857" y="10858"/>
                  <a:pt x="19850" y="10876"/>
                  <a:pt x="19893" y="10914"/>
                </a:cubicBezTo>
              </a:path>
              <a:path w="4193" h="8608">
                <a:moveTo>
                  <a:pt x="19993" y="11187"/>
                </a:moveTo>
                <a:cubicBezTo>
                  <a:pt x="19832" y="11175"/>
                  <a:pt x="19686" y="11284"/>
                  <a:pt x="19745" y="11485"/>
                </a:cubicBezTo>
                <a:cubicBezTo>
                  <a:pt x="19770" y="11518"/>
                  <a:pt x="19794" y="11551"/>
                  <a:pt x="19819" y="11584"/>
                </a:cubicBezTo>
                <a:cubicBezTo>
                  <a:pt x="19987" y="11518"/>
                  <a:pt x="20132" y="11394"/>
                  <a:pt x="19943" y="11212"/>
                </a:cubicBezTo>
                <a:cubicBezTo>
                  <a:pt x="19918" y="11204"/>
                  <a:pt x="19894" y="11195"/>
                  <a:pt x="19869" y="11187"/>
                </a:cubicBezTo>
              </a:path>
              <a:path w="4193" h="8608">
                <a:moveTo>
                  <a:pt x="19348" y="9004"/>
                </a:moveTo>
                <a:cubicBezTo>
                  <a:pt x="19437" y="9004"/>
                  <a:pt x="19507" y="8947"/>
                  <a:pt x="19596" y="8930"/>
                </a:cubicBezTo>
                <a:cubicBezTo>
                  <a:pt x="19612" y="8930"/>
                  <a:pt x="19629" y="8930"/>
                  <a:pt x="19645" y="8930"/>
                </a:cubicBezTo>
                <a:cubicBezTo>
                  <a:pt x="19632" y="9137"/>
                  <a:pt x="19582" y="9236"/>
                  <a:pt x="19422" y="9376"/>
                </a:cubicBezTo>
                <a:cubicBezTo>
                  <a:pt x="19397" y="9393"/>
                  <a:pt x="19373" y="9409"/>
                  <a:pt x="19348" y="9426"/>
                </a:cubicBezTo>
                <a:cubicBezTo>
                  <a:pt x="19370" y="9496"/>
                  <a:pt x="19481" y="9373"/>
                  <a:pt x="19546" y="9351"/>
                </a:cubicBezTo>
                <a:cubicBezTo>
                  <a:pt x="19636" y="9321"/>
                  <a:pt x="19722" y="9444"/>
                  <a:pt x="19844" y="9376"/>
                </a:cubicBezTo>
                <a:cubicBezTo>
                  <a:pt x="19860" y="9360"/>
                  <a:pt x="19877" y="9343"/>
                  <a:pt x="19893" y="9327"/>
                </a:cubicBezTo>
              </a:path>
              <a:path w="4193" h="8608">
                <a:moveTo>
                  <a:pt x="18802" y="12105"/>
                </a:moveTo>
                <a:cubicBezTo>
                  <a:pt x="18794" y="12092"/>
                  <a:pt x="18805" y="12045"/>
                  <a:pt x="18852" y="12030"/>
                </a:cubicBezTo>
                <a:cubicBezTo>
                  <a:pt x="18896" y="12016"/>
                  <a:pt x="19044" y="12047"/>
                  <a:pt x="18976" y="12129"/>
                </a:cubicBezTo>
                <a:cubicBezTo>
                  <a:pt x="18958" y="12151"/>
                  <a:pt x="18901" y="12173"/>
                  <a:pt x="18876" y="12179"/>
                </a:cubicBezTo>
                <a:cubicBezTo>
                  <a:pt x="18954" y="12179"/>
                  <a:pt x="19050" y="12165"/>
                  <a:pt x="19050" y="12278"/>
                </a:cubicBezTo>
                <a:cubicBezTo>
                  <a:pt x="19050" y="12334"/>
                  <a:pt x="18814" y="12409"/>
                  <a:pt x="18802" y="12328"/>
                </a:cubicBezTo>
                <a:cubicBezTo>
                  <a:pt x="18810" y="12311"/>
                  <a:pt x="18819" y="12295"/>
                  <a:pt x="18827" y="12278"/>
                </a:cubicBezTo>
              </a:path>
              <a:path w="4193" h="8608">
                <a:moveTo>
                  <a:pt x="19323" y="11981"/>
                </a:moveTo>
                <a:cubicBezTo>
                  <a:pt x="19418" y="11996"/>
                  <a:pt x="19735" y="12098"/>
                  <a:pt x="19496" y="12229"/>
                </a:cubicBezTo>
                <a:cubicBezTo>
                  <a:pt x="19395" y="12249"/>
                  <a:pt x="19375" y="12268"/>
                  <a:pt x="19323" y="12229"/>
                </a:cubicBezTo>
                <a:cubicBezTo>
                  <a:pt x="19377" y="12119"/>
                  <a:pt x="19521" y="12232"/>
                  <a:pt x="19621" y="12229"/>
                </a:cubicBezTo>
                <a:cubicBezTo>
                  <a:pt x="19654" y="12221"/>
                  <a:pt x="19687" y="12212"/>
                  <a:pt x="19720" y="12204"/>
                </a:cubicBezTo>
              </a:path>
              <a:path w="4193" h="8608">
                <a:moveTo>
                  <a:pt x="19893" y="11906"/>
                </a:moveTo>
                <a:cubicBezTo>
                  <a:pt x="19850" y="12038"/>
                  <a:pt x="19829" y="12070"/>
                  <a:pt x="19869" y="12154"/>
                </a:cubicBezTo>
                <a:cubicBezTo>
                  <a:pt x="19956" y="12164"/>
                  <a:pt x="20277" y="12153"/>
                  <a:pt x="20141" y="11956"/>
                </a:cubicBezTo>
                <a:cubicBezTo>
                  <a:pt x="20038" y="11904"/>
                  <a:pt x="20001" y="11887"/>
                  <a:pt x="19918" y="11906"/>
                </a:cubicBezTo>
              </a:path>
              <a:path w="4193" h="8608">
                <a:moveTo>
                  <a:pt x="18430" y="12427"/>
                </a:moveTo>
                <a:cubicBezTo>
                  <a:pt x="18772" y="12427"/>
                  <a:pt x="19083" y="12383"/>
                  <a:pt x="19422" y="12328"/>
                </a:cubicBezTo>
                <a:cubicBezTo>
                  <a:pt x="19843" y="12260"/>
                  <a:pt x="20237" y="12229"/>
                  <a:pt x="20662" y="12229"/>
                </a:cubicBezTo>
                <a:cubicBezTo>
                  <a:pt x="20670" y="12229"/>
                  <a:pt x="20679" y="12229"/>
                  <a:pt x="20687" y="12229"/>
                </a:cubicBezTo>
              </a:path>
              <a:path w="4193" h="8608">
                <a:moveTo>
                  <a:pt x="18207" y="12204"/>
                </a:moveTo>
                <a:cubicBezTo>
                  <a:pt x="18298" y="12204"/>
                  <a:pt x="18388" y="12204"/>
                  <a:pt x="18479" y="12204"/>
                </a:cubicBezTo>
              </a:path>
              <a:path w="4193" h="8608">
                <a:moveTo>
                  <a:pt x="19695" y="12626"/>
                </a:moveTo>
                <a:cubicBezTo>
                  <a:pt x="19765" y="12603"/>
                  <a:pt x="19682" y="12601"/>
                  <a:pt x="19645" y="12601"/>
                </a:cubicBezTo>
                <a:cubicBezTo>
                  <a:pt x="19607" y="12601"/>
                  <a:pt x="19570" y="12615"/>
                  <a:pt x="19546" y="12650"/>
                </a:cubicBezTo>
                <a:cubicBezTo>
                  <a:pt x="19546" y="12658"/>
                  <a:pt x="19546" y="12667"/>
                  <a:pt x="19546" y="12675"/>
                </a:cubicBezTo>
                <a:cubicBezTo>
                  <a:pt x="19632" y="12732"/>
                  <a:pt x="19790" y="12801"/>
                  <a:pt x="19794" y="12923"/>
                </a:cubicBezTo>
                <a:cubicBezTo>
                  <a:pt x="19799" y="13057"/>
                  <a:pt x="19647" y="13035"/>
                  <a:pt x="19571" y="13022"/>
                </a:cubicBezTo>
                <a:cubicBezTo>
                  <a:pt x="19571" y="12888"/>
                  <a:pt x="19633" y="12850"/>
                  <a:pt x="19745" y="12774"/>
                </a:cubicBezTo>
                <a:cubicBezTo>
                  <a:pt x="19787" y="12745"/>
                  <a:pt x="19885" y="12716"/>
                  <a:pt x="19819" y="12650"/>
                </a:cubicBezTo>
                <a:cubicBezTo>
                  <a:pt x="19811" y="12650"/>
                  <a:pt x="19802" y="12650"/>
                  <a:pt x="19794" y="12650"/>
                </a:cubicBezTo>
              </a:path>
              <a:path w="4193" h="8608">
                <a:moveTo>
                  <a:pt x="20265" y="12551"/>
                </a:moveTo>
                <a:cubicBezTo>
                  <a:pt x="20155" y="12574"/>
                  <a:pt x="20089" y="12691"/>
                  <a:pt x="20067" y="12799"/>
                </a:cubicBezTo>
                <a:cubicBezTo>
                  <a:pt x="20067" y="12840"/>
                  <a:pt x="20067" y="12882"/>
                  <a:pt x="20067" y="12923"/>
                </a:cubicBezTo>
                <a:cubicBezTo>
                  <a:pt x="20199" y="12954"/>
                  <a:pt x="20408" y="12980"/>
                  <a:pt x="20414" y="12774"/>
                </a:cubicBezTo>
                <a:cubicBezTo>
                  <a:pt x="20418" y="12646"/>
                  <a:pt x="20273" y="12609"/>
                  <a:pt x="20191" y="12576"/>
                </a:cubicBezTo>
              </a:path>
              <a:path w="4193" h="8608">
                <a:moveTo>
                  <a:pt x="20513" y="10021"/>
                </a:moveTo>
                <a:cubicBezTo>
                  <a:pt x="20341" y="9934"/>
                  <a:pt x="20266" y="10013"/>
                  <a:pt x="20216" y="10220"/>
                </a:cubicBezTo>
                <a:cubicBezTo>
                  <a:pt x="20216" y="10261"/>
                  <a:pt x="20216" y="10303"/>
                  <a:pt x="20216" y="10344"/>
                </a:cubicBezTo>
                <a:cubicBezTo>
                  <a:pt x="20380" y="10380"/>
                  <a:pt x="20671" y="10343"/>
                  <a:pt x="20588" y="10071"/>
                </a:cubicBezTo>
                <a:cubicBezTo>
                  <a:pt x="20498" y="10011"/>
                  <a:pt x="20457" y="10004"/>
                  <a:pt x="20389" y="10096"/>
                </a:cubicBezTo>
              </a:path>
              <a:path w="4193" h="8608">
                <a:moveTo>
                  <a:pt x="20489" y="10368"/>
                </a:moveTo>
                <a:cubicBezTo>
                  <a:pt x="20512" y="10484"/>
                  <a:pt x="20538" y="10594"/>
                  <a:pt x="20563" y="10716"/>
                </a:cubicBezTo>
                <a:cubicBezTo>
                  <a:pt x="20628" y="11030"/>
                  <a:pt x="20673" y="11345"/>
                  <a:pt x="20737" y="11658"/>
                </a:cubicBezTo>
                <a:cubicBezTo>
                  <a:pt x="20749" y="11716"/>
                  <a:pt x="20750" y="11724"/>
                  <a:pt x="20762" y="11782"/>
                </a:cubicBezTo>
              </a:path>
              <a:path w="4193" h="8608">
                <a:moveTo>
                  <a:pt x="20836" y="12502"/>
                </a:moveTo>
                <a:cubicBezTo>
                  <a:pt x="20761" y="12427"/>
                  <a:pt x="20712" y="12716"/>
                  <a:pt x="20712" y="12774"/>
                </a:cubicBezTo>
                <a:cubicBezTo>
                  <a:pt x="20720" y="12807"/>
                  <a:pt x="20729" y="12841"/>
                  <a:pt x="20737" y="12874"/>
                </a:cubicBezTo>
                <a:cubicBezTo>
                  <a:pt x="20806" y="12863"/>
                  <a:pt x="21210" y="12686"/>
                  <a:pt x="20960" y="12576"/>
                </a:cubicBezTo>
                <a:cubicBezTo>
                  <a:pt x="20910" y="12576"/>
                  <a:pt x="20861" y="12576"/>
                  <a:pt x="20811" y="12576"/>
                </a:cubicBezTo>
              </a:path>
              <a:path w="4193" h="8608">
                <a:moveTo>
                  <a:pt x="20265" y="8905"/>
                </a:moveTo>
                <a:cubicBezTo>
                  <a:pt x="20250" y="8907"/>
                  <a:pt x="20026" y="8931"/>
                  <a:pt x="20017" y="8954"/>
                </a:cubicBezTo>
                <a:cubicBezTo>
                  <a:pt x="20017" y="8979"/>
                  <a:pt x="20017" y="9004"/>
                  <a:pt x="20017" y="9029"/>
                </a:cubicBezTo>
                <a:cubicBezTo>
                  <a:pt x="20090" y="9173"/>
                  <a:pt x="20243" y="8976"/>
                  <a:pt x="20414" y="9103"/>
                </a:cubicBezTo>
                <a:cubicBezTo>
                  <a:pt x="20422" y="9128"/>
                  <a:pt x="20431" y="9153"/>
                  <a:pt x="20439" y="9178"/>
                </a:cubicBezTo>
                <a:cubicBezTo>
                  <a:pt x="20294" y="9323"/>
                  <a:pt x="20224" y="9359"/>
                  <a:pt x="20042" y="9252"/>
                </a:cubicBezTo>
              </a:path>
              <a:path w="4193" h="8608">
                <a:moveTo>
                  <a:pt x="19769" y="13221"/>
                </a:moveTo>
                <a:cubicBezTo>
                  <a:pt x="19873" y="13186"/>
                  <a:pt x="19638" y="13261"/>
                  <a:pt x="19621" y="13271"/>
                </a:cubicBezTo>
                <a:cubicBezTo>
                  <a:pt x="19533" y="13336"/>
                  <a:pt x="19505" y="13346"/>
                  <a:pt x="19496" y="13419"/>
                </a:cubicBezTo>
                <a:cubicBezTo>
                  <a:pt x="19569" y="13471"/>
                  <a:pt x="19907" y="13625"/>
                  <a:pt x="19745" y="13742"/>
                </a:cubicBezTo>
                <a:cubicBezTo>
                  <a:pt x="19720" y="13742"/>
                  <a:pt x="19695" y="13742"/>
                  <a:pt x="19670" y="13742"/>
                </a:cubicBezTo>
                <a:cubicBezTo>
                  <a:pt x="19684" y="13607"/>
                  <a:pt x="19806" y="13478"/>
                  <a:pt x="19893" y="13345"/>
                </a:cubicBezTo>
              </a:path>
              <a:path w="4193" h="8608">
                <a:moveTo>
                  <a:pt x="20241" y="13246"/>
                </a:moveTo>
                <a:cubicBezTo>
                  <a:pt x="20093" y="13435"/>
                  <a:pt x="20093" y="13471"/>
                  <a:pt x="20191" y="13667"/>
                </a:cubicBezTo>
                <a:cubicBezTo>
                  <a:pt x="20295" y="13637"/>
                  <a:pt x="20725" y="13486"/>
                  <a:pt x="20439" y="13320"/>
                </a:cubicBezTo>
                <a:cubicBezTo>
                  <a:pt x="20352" y="13269"/>
                  <a:pt x="20101" y="13330"/>
                  <a:pt x="20365" y="13271"/>
                </a:cubicBezTo>
              </a:path>
              <a:path w="4193" h="8608">
                <a:moveTo>
                  <a:pt x="20662" y="13271"/>
                </a:moveTo>
                <a:cubicBezTo>
                  <a:pt x="20671" y="13473"/>
                  <a:pt x="20821" y="13754"/>
                  <a:pt x="21059" y="13469"/>
                </a:cubicBezTo>
                <a:cubicBezTo>
                  <a:pt x="21268" y="13218"/>
                  <a:pt x="20738" y="13249"/>
                  <a:pt x="20712" y="13246"/>
                </a:cubicBezTo>
              </a:path>
              <a:path w="4193" h="8608">
                <a:moveTo>
                  <a:pt x="19075" y="13618"/>
                </a:moveTo>
                <a:cubicBezTo>
                  <a:pt x="19239" y="13592"/>
                  <a:pt x="19404" y="13583"/>
                  <a:pt x="19571" y="13568"/>
                </a:cubicBezTo>
              </a:path>
              <a:path w="4193" h="8608">
                <a:moveTo>
                  <a:pt x="19596" y="14089"/>
                </a:moveTo>
                <a:cubicBezTo>
                  <a:pt x="20058" y="14023"/>
                  <a:pt x="20519" y="13930"/>
                  <a:pt x="20985" y="13891"/>
                </a:cubicBezTo>
                <a:cubicBezTo>
                  <a:pt x="21043" y="13891"/>
                  <a:pt x="21100" y="13891"/>
                  <a:pt x="21158" y="13891"/>
                </a:cubicBezTo>
              </a:path>
              <a:path w="4193" h="8608">
                <a:moveTo>
                  <a:pt x="20960" y="14015"/>
                </a:moveTo>
                <a:cubicBezTo>
                  <a:pt x="20896" y="14036"/>
                  <a:pt x="20798" y="14202"/>
                  <a:pt x="20786" y="14288"/>
                </a:cubicBezTo>
                <a:cubicBezTo>
                  <a:pt x="20794" y="14313"/>
                  <a:pt x="20803" y="14337"/>
                  <a:pt x="20811" y="14362"/>
                </a:cubicBezTo>
                <a:cubicBezTo>
                  <a:pt x="20887" y="14348"/>
                  <a:pt x="21376" y="14218"/>
                  <a:pt x="21158" y="14064"/>
                </a:cubicBezTo>
                <a:cubicBezTo>
                  <a:pt x="21053" y="14043"/>
                  <a:pt x="21025" y="14048"/>
                  <a:pt x="20985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35920" y="1919160"/>
            <a:ext cx="696960" cy="331920"/>
          </a:xfrm>
          <a:custGeom>
            <a:avLst/>
            <a:gdLst/>
            <a:ahLst/>
            <a:rect l="l" t="t" r="r" b="b"/>
            <a:pathLst>
              <a:path w="1936" h="919">
                <a:moveTo>
                  <a:pt x="22572" y="5655"/>
                </a:moveTo>
                <a:cubicBezTo>
                  <a:pt x="22612" y="5712"/>
                  <a:pt x="22654" y="5739"/>
                  <a:pt x="22622" y="5755"/>
                </a:cubicBezTo>
                <a:cubicBezTo>
                  <a:pt x="22598" y="5719"/>
                  <a:pt x="22583" y="5639"/>
                  <a:pt x="22597" y="5680"/>
                </a:cubicBezTo>
                <a:cubicBezTo>
                  <a:pt x="22610" y="5719"/>
                  <a:pt x="22622" y="5904"/>
                  <a:pt x="22622" y="5854"/>
                </a:cubicBezTo>
                <a:cubicBezTo>
                  <a:pt x="22622" y="5792"/>
                  <a:pt x="22639" y="5727"/>
                  <a:pt x="22597" y="5680"/>
                </a:cubicBezTo>
                <a:cubicBezTo>
                  <a:pt x="22544" y="5621"/>
                  <a:pt x="22413" y="5670"/>
                  <a:pt x="22374" y="5730"/>
                </a:cubicBezTo>
                <a:cubicBezTo>
                  <a:pt x="22290" y="5858"/>
                  <a:pt x="22293" y="6085"/>
                  <a:pt x="22399" y="6201"/>
                </a:cubicBezTo>
                <a:cubicBezTo>
                  <a:pt x="22511" y="6324"/>
                  <a:pt x="22665" y="6194"/>
                  <a:pt x="22771" y="6127"/>
                </a:cubicBezTo>
                <a:cubicBezTo>
                  <a:pt x="22798" y="6110"/>
                  <a:pt x="22808" y="6056"/>
                  <a:pt x="22820" y="6028"/>
                </a:cubicBezTo>
              </a:path>
              <a:path w="1936" h="919">
                <a:moveTo>
                  <a:pt x="23044" y="5631"/>
                </a:moveTo>
                <a:cubicBezTo>
                  <a:pt x="23085" y="5624"/>
                  <a:pt x="23127" y="5613"/>
                  <a:pt x="23168" y="5606"/>
                </a:cubicBezTo>
              </a:path>
              <a:path w="1936" h="919">
                <a:moveTo>
                  <a:pt x="23019" y="5904"/>
                </a:moveTo>
                <a:cubicBezTo>
                  <a:pt x="23098" y="5899"/>
                  <a:pt x="23165" y="5888"/>
                  <a:pt x="23242" y="5879"/>
                </a:cubicBezTo>
              </a:path>
              <a:path w="1936" h="919">
                <a:moveTo>
                  <a:pt x="23564" y="5383"/>
                </a:moveTo>
                <a:cubicBezTo>
                  <a:pt x="23429" y="5468"/>
                  <a:pt x="23421" y="5461"/>
                  <a:pt x="23416" y="5631"/>
                </a:cubicBezTo>
                <a:cubicBezTo>
                  <a:pt x="23416" y="5656"/>
                  <a:pt x="23416" y="5680"/>
                  <a:pt x="23416" y="5705"/>
                </a:cubicBezTo>
                <a:cubicBezTo>
                  <a:pt x="23495" y="5689"/>
                  <a:pt x="23587" y="5617"/>
                  <a:pt x="23664" y="5680"/>
                </a:cubicBezTo>
                <a:cubicBezTo>
                  <a:pt x="23799" y="5790"/>
                  <a:pt x="23652" y="5994"/>
                  <a:pt x="23515" y="6003"/>
                </a:cubicBezTo>
                <a:cubicBezTo>
                  <a:pt x="23437" y="5977"/>
                  <a:pt x="23410" y="5966"/>
                  <a:pt x="23391" y="5904"/>
                </a:cubicBezTo>
              </a:path>
              <a:path w="1936" h="919">
                <a:moveTo>
                  <a:pt x="24036" y="5358"/>
                </a:moveTo>
                <a:cubicBezTo>
                  <a:pt x="23992" y="5271"/>
                  <a:pt x="23937" y="5659"/>
                  <a:pt x="23937" y="5680"/>
                </a:cubicBezTo>
                <a:cubicBezTo>
                  <a:pt x="23937" y="5871"/>
                  <a:pt x="24026" y="5871"/>
                  <a:pt x="24160" y="5879"/>
                </a:cubicBezTo>
                <a:cubicBezTo>
                  <a:pt x="24259" y="5729"/>
                  <a:pt x="24305" y="5588"/>
                  <a:pt x="24135" y="5457"/>
                </a:cubicBezTo>
                <a:cubicBezTo>
                  <a:pt x="24070" y="5435"/>
                  <a:pt x="24055" y="5427"/>
                  <a:pt x="24011" y="54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38200" y="3571920"/>
            <a:ext cx="660600" cy="160200"/>
          </a:xfrm>
          <a:custGeom>
            <a:avLst/>
            <a:gdLst/>
            <a:ahLst/>
            <a:rect l="l" t="t" r="r" b="b"/>
            <a:pathLst>
              <a:path w="1836" h="447">
                <a:moveTo>
                  <a:pt x="4390" y="9996"/>
                </a:moveTo>
                <a:cubicBezTo>
                  <a:pt x="4318" y="10241"/>
                  <a:pt x="4291" y="10359"/>
                  <a:pt x="4018" y="10344"/>
                </a:cubicBezTo>
                <a:cubicBezTo>
                  <a:pt x="3934" y="10198"/>
                  <a:pt x="4205" y="10200"/>
                  <a:pt x="4291" y="10220"/>
                </a:cubicBezTo>
                <a:cubicBezTo>
                  <a:pt x="4422" y="10285"/>
                  <a:pt x="4457" y="10295"/>
                  <a:pt x="4514" y="10368"/>
                </a:cubicBezTo>
              </a:path>
              <a:path w="1836" h="447">
                <a:moveTo>
                  <a:pt x="4787" y="9996"/>
                </a:moveTo>
                <a:cubicBezTo>
                  <a:pt x="4708" y="10179"/>
                  <a:pt x="4685" y="10189"/>
                  <a:pt x="4738" y="10368"/>
                </a:cubicBezTo>
                <a:cubicBezTo>
                  <a:pt x="4924" y="10351"/>
                  <a:pt x="4975" y="10338"/>
                  <a:pt x="5110" y="10220"/>
                </a:cubicBezTo>
                <a:cubicBezTo>
                  <a:pt x="5033" y="10022"/>
                  <a:pt x="5052" y="10051"/>
                  <a:pt x="4837" y="10021"/>
                </a:cubicBezTo>
              </a:path>
              <a:path w="1836" h="447">
                <a:moveTo>
                  <a:pt x="5383" y="9971"/>
                </a:moveTo>
                <a:cubicBezTo>
                  <a:pt x="5516" y="9957"/>
                  <a:pt x="5646" y="9929"/>
                  <a:pt x="5779" y="9922"/>
                </a:cubicBezTo>
                <a:cubicBezTo>
                  <a:pt x="5787" y="9922"/>
                  <a:pt x="5796" y="9922"/>
                  <a:pt x="5804" y="9922"/>
                </a:cubicBezTo>
              </a:path>
              <a:path w="1836" h="447">
                <a:moveTo>
                  <a:pt x="5507" y="10170"/>
                </a:moveTo>
                <a:cubicBezTo>
                  <a:pt x="5614" y="10152"/>
                  <a:pt x="5722" y="10132"/>
                  <a:pt x="5829" y="10120"/>
                </a:cubicBezTo>
              </a:path>
              <a:path w="1836" h="447">
                <a:moveTo>
                  <a:pt x="4341" y="9971"/>
                </a:moveTo>
                <a:cubicBezTo>
                  <a:pt x="4333" y="9948"/>
                  <a:pt x="4255" y="9919"/>
                  <a:pt x="4217" y="9922"/>
                </a:cubicBezTo>
                <a:cubicBezTo>
                  <a:pt x="4123" y="9930"/>
                  <a:pt x="4086" y="9997"/>
                  <a:pt x="4068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90840" y="3500280"/>
            <a:ext cx="1760400" cy="231840"/>
          </a:xfrm>
          <a:custGeom>
            <a:avLst/>
            <a:gdLst/>
            <a:ahLst/>
            <a:rect l="l" t="t" r="r" b="b"/>
            <a:pathLst>
              <a:path w="4887" h="646">
                <a:moveTo>
                  <a:pt x="6921" y="9823"/>
                </a:moveTo>
                <a:cubicBezTo>
                  <a:pt x="6942" y="9950"/>
                  <a:pt x="6995" y="10263"/>
                  <a:pt x="6995" y="10294"/>
                </a:cubicBezTo>
                <a:cubicBezTo>
                  <a:pt x="7017" y="10207"/>
                  <a:pt x="7017" y="10021"/>
                  <a:pt x="7144" y="10021"/>
                </a:cubicBezTo>
                <a:cubicBezTo>
                  <a:pt x="7323" y="10021"/>
                  <a:pt x="7391" y="10203"/>
                  <a:pt x="7417" y="10344"/>
                </a:cubicBezTo>
              </a:path>
              <a:path w="4887" h="646">
                <a:moveTo>
                  <a:pt x="7962" y="10071"/>
                </a:moveTo>
                <a:cubicBezTo>
                  <a:pt x="8102" y="10117"/>
                  <a:pt x="8256" y="10238"/>
                  <a:pt x="8384" y="10319"/>
                </a:cubicBezTo>
                <a:cubicBezTo>
                  <a:pt x="8407" y="10342"/>
                  <a:pt x="8411" y="10350"/>
                  <a:pt x="8434" y="10344"/>
                </a:cubicBezTo>
              </a:path>
              <a:path w="4887" h="646">
                <a:moveTo>
                  <a:pt x="8310" y="9971"/>
                </a:moveTo>
                <a:cubicBezTo>
                  <a:pt x="8253" y="10063"/>
                  <a:pt x="8146" y="10330"/>
                  <a:pt x="8037" y="10368"/>
                </a:cubicBezTo>
                <a:cubicBezTo>
                  <a:pt x="8037" y="10360"/>
                  <a:pt x="8037" y="10352"/>
                  <a:pt x="8037" y="10344"/>
                </a:cubicBezTo>
              </a:path>
              <a:path w="4887" h="646">
                <a:moveTo>
                  <a:pt x="8855" y="9922"/>
                </a:moveTo>
                <a:cubicBezTo>
                  <a:pt x="8903" y="10065"/>
                  <a:pt x="8905" y="10193"/>
                  <a:pt x="8905" y="10344"/>
                </a:cubicBezTo>
              </a:path>
              <a:path w="4887" h="646">
                <a:moveTo>
                  <a:pt x="9302" y="9823"/>
                </a:moveTo>
                <a:cubicBezTo>
                  <a:pt x="9302" y="9973"/>
                  <a:pt x="9262" y="10120"/>
                  <a:pt x="9277" y="10269"/>
                </a:cubicBezTo>
                <a:cubicBezTo>
                  <a:pt x="9285" y="10294"/>
                  <a:pt x="9294" y="10319"/>
                  <a:pt x="9302" y="10344"/>
                </a:cubicBezTo>
                <a:cubicBezTo>
                  <a:pt x="9486" y="10369"/>
                  <a:pt x="9606" y="10326"/>
                  <a:pt x="9723" y="10170"/>
                </a:cubicBezTo>
                <a:cubicBezTo>
                  <a:pt x="9723" y="10162"/>
                  <a:pt x="9723" y="10153"/>
                  <a:pt x="9723" y="10145"/>
                </a:cubicBezTo>
                <a:cubicBezTo>
                  <a:pt x="9596" y="10145"/>
                  <a:pt x="9348" y="10344"/>
                  <a:pt x="9475" y="10344"/>
                </a:cubicBezTo>
                <a:cubicBezTo>
                  <a:pt x="9516" y="10327"/>
                  <a:pt x="9558" y="10311"/>
                  <a:pt x="9599" y="10294"/>
                </a:cubicBezTo>
              </a:path>
              <a:path w="4887" h="646">
                <a:moveTo>
                  <a:pt x="10120" y="9773"/>
                </a:moveTo>
                <a:cubicBezTo>
                  <a:pt x="9907" y="9919"/>
                  <a:pt x="9848" y="10016"/>
                  <a:pt x="9897" y="10269"/>
                </a:cubicBezTo>
                <a:cubicBezTo>
                  <a:pt x="10050" y="10269"/>
                  <a:pt x="10541" y="10201"/>
                  <a:pt x="10368" y="9897"/>
                </a:cubicBezTo>
                <a:cubicBezTo>
                  <a:pt x="10224" y="9839"/>
                  <a:pt x="10161" y="9820"/>
                  <a:pt x="10046" y="9823"/>
                </a:cubicBezTo>
              </a:path>
              <a:path w="4887" h="646">
                <a:moveTo>
                  <a:pt x="9500" y="9748"/>
                </a:moveTo>
                <a:cubicBezTo>
                  <a:pt x="9566" y="9719"/>
                  <a:pt x="9669" y="9723"/>
                  <a:pt x="9773" y="9723"/>
                </a:cubicBezTo>
                <a:cubicBezTo>
                  <a:pt x="9995" y="9723"/>
                  <a:pt x="10200" y="9779"/>
                  <a:pt x="10418" y="9798"/>
                </a:cubicBezTo>
                <a:cubicBezTo>
                  <a:pt x="10576" y="9812"/>
                  <a:pt x="10730" y="9843"/>
                  <a:pt x="10889" y="9847"/>
                </a:cubicBezTo>
                <a:cubicBezTo>
                  <a:pt x="11046" y="9851"/>
                  <a:pt x="11202" y="9823"/>
                  <a:pt x="11361" y="9823"/>
                </a:cubicBezTo>
                <a:cubicBezTo>
                  <a:pt x="11497" y="9823"/>
                  <a:pt x="11651" y="9789"/>
                  <a:pt x="11782" y="9798"/>
                </a:cubicBezTo>
                <a:cubicBezTo>
                  <a:pt x="11790" y="9806"/>
                  <a:pt x="11799" y="9815"/>
                  <a:pt x="11807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8200" y="3714840"/>
            <a:ext cx="446040" cy="295200"/>
          </a:xfrm>
          <a:custGeom>
            <a:avLst/>
            <a:gdLst/>
            <a:ahLst/>
            <a:rect l="l" t="t" r="r" b="b"/>
            <a:pathLst>
              <a:path w="1241" h="819">
                <a:moveTo>
                  <a:pt x="3994" y="10542"/>
                </a:moveTo>
                <a:cubicBezTo>
                  <a:pt x="4254" y="10523"/>
                  <a:pt x="4535" y="10487"/>
                  <a:pt x="4787" y="10418"/>
                </a:cubicBezTo>
                <a:cubicBezTo>
                  <a:pt x="4944" y="10360"/>
                  <a:pt x="4968" y="10349"/>
                  <a:pt x="5060" y="10319"/>
                </a:cubicBezTo>
              </a:path>
              <a:path w="1241" h="819">
                <a:moveTo>
                  <a:pt x="4093" y="10765"/>
                </a:moveTo>
                <a:cubicBezTo>
                  <a:pt x="4052" y="10873"/>
                  <a:pt x="4068" y="11012"/>
                  <a:pt x="4068" y="11137"/>
                </a:cubicBezTo>
              </a:path>
              <a:path w="1241" h="819">
                <a:moveTo>
                  <a:pt x="4415" y="10691"/>
                </a:moveTo>
                <a:cubicBezTo>
                  <a:pt x="4415" y="10807"/>
                  <a:pt x="4382" y="10972"/>
                  <a:pt x="4514" y="11038"/>
                </a:cubicBezTo>
                <a:cubicBezTo>
                  <a:pt x="4660" y="11111"/>
                  <a:pt x="4782" y="10992"/>
                  <a:pt x="4862" y="10889"/>
                </a:cubicBezTo>
                <a:cubicBezTo>
                  <a:pt x="4733" y="10824"/>
                  <a:pt x="4705" y="10917"/>
                  <a:pt x="4638" y="11013"/>
                </a:cubicBezTo>
                <a:cubicBezTo>
                  <a:pt x="4609" y="11043"/>
                  <a:pt x="4607" y="11054"/>
                  <a:pt x="4663" y="11063"/>
                </a:cubicBezTo>
              </a:path>
              <a:path w="1241" h="819">
                <a:moveTo>
                  <a:pt x="4936" y="10716"/>
                </a:moveTo>
                <a:cubicBezTo>
                  <a:pt x="4894" y="10822"/>
                  <a:pt x="4878" y="10843"/>
                  <a:pt x="4887" y="10914"/>
                </a:cubicBezTo>
                <a:cubicBezTo>
                  <a:pt x="5000" y="10929"/>
                  <a:pt x="5242" y="10935"/>
                  <a:pt x="5234" y="10740"/>
                </a:cubicBezTo>
                <a:cubicBezTo>
                  <a:pt x="5230" y="10641"/>
                  <a:pt x="5070" y="10707"/>
                  <a:pt x="5035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20960" y="3803760"/>
            <a:ext cx="804960" cy="268200"/>
          </a:xfrm>
          <a:custGeom>
            <a:avLst/>
            <a:gdLst/>
            <a:ahLst/>
            <a:rect l="l" t="t" r="r" b="b"/>
            <a:pathLst>
              <a:path w="2234" h="745">
                <a:moveTo>
                  <a:pt x="7838" y="10716"/>
                </a:moveTo>
                <a:cubicBezTo>
                  <a:pt x="8070" y="10716"/>
                  <a:pt x="8276" y="10699"/>
                  <a:pt x="8508" y="10666"/>
                </a:cubicBezTo>
                <a:cubicBezTo>
                  <a:pt x="8953" y="10604"/>
                  <a:pt x="9398" y="10572"/>
                  <a:pt x="9847" y="10567"/>
                </a:cubicBezTo>
                <a:cubicBezTo>
                  <a:pt x="9988" y="10567"/>
                  <a:pt x="9996" y="10567"/>
                  <a:pt x="10071" y="10567"/>
                </a:cubicBezTo>
              </a:path>
              <a:path w="2234" h="745">
                <a:moveTo>
                  <a:pt x="8483" y="10939"/>
                </a:moveTo>
                <a:cubicBezTo>
                  <a:pt x="8510" y="11048"/>
                  <a:pt x="8495" y="11141"/>
                  <a:pt x="8483" y="11261"/>
                </a:cubicBezTo>
                <a:cubicBezTo>
                  <a:pt x="8483" y="11278"/>
                  <a:pt x="8483" y="11294"/>
                  <a:pt x="8483" y="11311"/>
                </a:cubicBezTo>
              </a:path>
              <a:path w="2234" h="745">
                <a:moveTo>
                  <a:pt x="8756" y="10889"/>
                </a:moveTo>
                <a:cubicBezTo>
                  <a:pt x="8756" y="11038"/>
                  <a:pt x="8727" y="11218"/>
                  <a:pt x="8905" y="11286"/>
                </a:cubicBezTo>
                <a:cubicBezTo>
                  <a:pt x="9012" y="11327"/>
                  <a:pt x="9254" y="11125"/>
                  <a:pt x="9153" y="11063"/>
                </a:cubicBezTo>
                <a:cubicBezTo>
                  <a:pt x="9028" y="10986"/>
                  <a:pt x="8949" y="11170"/>
                  <a:pt x="8905" y="11237"/>
                </a:cubicBezTo>
                <a:cubicBezTo>
                  <a:pt x="8959" y="11289"/>
                  <a:pt x="9006" y="11284"/>
                  <a:pt x="9079" y="11212"/>
                </a:cubicBezTo>
              </a:path>
              <a:path w="2234" h="745">
                <a:moveTo>
                  <a:pt x="9376" y="10815"/>
                </a:moveTo>
                <a:cubicBezTo>
                  <a:pt x="9303" y="10961"/>
                  <a:pt x="9265" y="10977"/>
                  <a:pt x="9327" y="11112"/>
                </a:cubicBezTo>
                <a:cubicBezTo>
                  <a:pt x="9392" y="11101"/>
                  <a:pt x="9850" y="10871"/>
                  <a:pt x="9550" y="10815"/>
                </a:cubicBezTo>
                <a:cubicBezTo>
                  <a:pt x="9484" y="10823"/>
                  <a:pt x="9417" y="10832"/>
                  <a:pt x="9351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76640" y="4724280"/>
            <a:ext cx="250560" cy="241560"/>
          </a:xfrm>
          <a:custGeom>
            <a:avLst/>
            <a:gdLst/>
            <a:ahLst/>
            <a:rect l="l" t="t" r="r" b="b"/>
            <a:pathLst>
              <a:path w="696" h="670">
                <a:moveTo>
                  <a:pt x="6325" y="13122"/>
                </a:moveTo>
                <a:cubicBezTo>
                  <a:pt x="6347" y="13298"/>
                  <a:pt x="6371" y="13465"/>
                  <a:pt x="6375" y="13643"/>
                </a:cubicBezTo>
                <a:cubicBezTo>
                  <a:pt x="6375" y="13676"/>
                  <a:pt x="6375" y="13709"/>
                  <a:pt x="6375" y="13742"/>
                </a:cubicBezTo>
                <a:cubicBezTo>
                  <a:pt x="6348" y="13584"/>
                  <a:pt x="6329" y="13451"/>
                  <a:pt x="6400" y="13295"/>
                </a:cubicBezTo>
                <a:cubicBezTo>
                  <a:pt x="6507" y="13061"/>
                  <a:pt x="6732" y="13150"/>
                  <a:pt x="6871" y="13295"/>
                </a:cubicBezTo>
                <a:cubicBezTo>
                  <a:pt x="7018" y="13449"/>
                  <a:pt x="7020" y="13571"/>
                  <a:pt x="7020" y="13767"/>
                </a:cubicBezTo>
                <a:cubicBezTo>
                  <a:pt x="7020" y="13775"/>
                  <a:pt x="7020" y="13783"/>
                  <a:pt x="7020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06840" y="4795920"/>
            <a:ext cx="171360" cy="88920"/>
          </a:xfrm>
          <a:custGeom>
            <a:avLst/>
            <a:gdLst/>
            <a:ahLst/>
            <a:rect l="l" t="t" r="r" b="b"/>
            <a:pathLst>
              <a:path w="472" h="249">
                <a:moveTo>
                  <a:pt x="10021" y="13345"/>
                </a:moveTo>
                <a:cubicBezTo>
                  <a:pt x="10152" y="13329"/>
                  <a:pt x="10279" y="13320"/>
                  <a:pt x="10418" y="13320"/>
                </a:cubicBezTo>
                <a:cubicBezTo>
                  <a:pt x="10459" y="13320"/>
                  <a:pt x="10467" y="13320"/>
                  <a:pt x="10492" y="13320"/>
                </a:cubicBezTo>
              </a:path>
              <a:path w="472" h="249">
                <a:moveTo>
                  <a:pt x="10145" y="13568"/>
                </a:moveTo>
                <a:cubicBezTo>
                  <a:pt x="10261" y="13568"/>
                  <a:pt x="10376" y="13568"/>
                  <a:pt x="10492" y="135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14880" y="4705200"/>
            <a:ext cx="322200" cy="23364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1757" y="13543"/>
                </a:moveTo>
                <a:cubicBezTo>
                  <a:pt x="11729" y="13460"/>
                  <a:pt x="11692" y="13607"/>
                  <a:pt x="11708" y="13618"/>
                </a:cubicBezTo>
                <a:cubicBezTo>
                  <a:pt x="11749" y="13646"/>
                  <a:pt x="11997" y="13616"/>
                  <a:pt x="11807" y="13568"/>
                </a:cubicBezTo>
              </a:path>
              <a:path w="894" h="646">
                <a:moveTo>
                  <a:pt x="12303" y="13171"/>
                </a:moveTo>
                <a:cubicBezTo>
                  <a:pt x="12294" y="13286"/>
                  <a:pt x="12261" y="13391"/>
                  <a:pt x="12229" y="13494"/>
                </a:cubicBezTo>
                <a:cubicBezTo>
                  <a:pt x="12211" y="13553"/>
                  <a:pt x="12552" y="13502"/>
                  <a:pt x="12601" y="13494"/>
                </a:cubicBezTo>
              </a:path>
              <a:path w="894" h="646">
                <a:moveTo>
                  <a:pt x="12551" y="13072"/>
                </a:moveTo>
                <a:cubicBezTo>
                  <a:pt x="12587" y="13274"/>
                  <a:pt x="12570" y="13463"/>
                  <a:pt x="12551" y="13667"/>
                </a:cubicBezTo>
                <a:cubicBezTo>
                  <a:pt x="12551" y="13684"/>
                  <a:pt x="12551" y="13700"/>
                  <a:pt x="12551" y="13717"/>
                </a:cubicBezTo>
              </a:path>
              <a:path w="894" h="646">
                <a:moveTo>
                  <a:pt x="11757" y="13568"/>
                </a:moveTo>
                <a:cubicBezTo>
                  <a:pt x="11796" y="13568"/>
                  <a:pt x="11782" y="13552"/>
                  <a:pt x="11782" y="13519"/>
                </a:cubicBezTo>
              </a:path>
              <a:path w="894" h="646">
                <a:moveTo>
                  <a:pt x="11733" y="13295"/>
                </a:moveTo>
                <a:cubicBezTo>
                  <a:pt x="11743" y="13221"/>
                  <a:pt x="11738" y="13235"/>
                  <a:pt x="11807" y="13196"/>
                </a:cubicBezTo>
              </a:path>
              <a:path w="894" h="646">
                <a:moveTo>
                  <a:pt x="11881" y="13146"/>
                </a:moveTo>
                <a:cubicBezTo>
                  <a:pt x="11952" y="13217"/>
                  <a:pt x="11935" y="13337"/>
                  <a:pt x="11956" y="13444"/>
                </a:cubicBezTo>
                <a:cubicBezTo>
                  <a:pt x="11976" y="13547"/>
                  <a:pt x="12067" y="13623"/>
                  <a:pt x="12179" y="13593"/>
                </a:cubicBezTo>
                <a:cubicBezTo>
                  <a:pt x="12326" y="13554"/>
                  <a:pt x="12278" y="13411"/>
                  <a:pt x="12229" y="13320"/>
                </a:cubicBezTo>
                <a:cubicBezTo>
                  <a:pt x="12166" y="13202"/>
                  <a:pt x="12053" y="13178"/>
                  <a:pt x="11931" y="13171"/>
                </a:cubicBezTo>
                <a:cubicBezTo>
                  <a:pt x="11906" y="13171"/>
                  <a:pt x="11898" y="13171"/>
                  <a:pt x="11906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4840" y="4724280"/>
            <a:ext cx="20628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13841" y="13196"/>
                </a:moveTo>
                <a:cubicBezTo>
                  <a:pt x="13755" y="13259"/>
                  <a:pt x="13512" y="13448"/>
                  <a:pt x="13692" y="13568"/>
                </a:cubicBezTo>
                <a:cubicBezTo>
                  <a:pt x="13857" y="13678"/>
                  <a:pt x="14030" y="13510"/>
                  <a:pt x="13965" y="13345"/>
                </a:cubicBezTo>
                <a:cubicBezTo>
                  <a:pt x="13948" y="13301"/>
                  <a:pt x="13927" y="13305"/>
                  <a:pt x="13915" y="13271"/>
                </a:cubicBezTo>
              </a:path>
              <a:path w="572" h="646">
                <a:moveTo>
                  <a:pt x="13568" y="13171"/>
                </a:moveTo>
                <a:cubicBezTo>
                  <a:pt x="13714" y="13296"/>
                  <a:pt x="13856" y="13502"/>
                  <a:pt x="14015" y="13643"/>
                </a:cubicBezTo>
                <a:cubicBezTo>
                  <a:pt x="14063" y="13686"/>
                  <a:pt x="14199" y="13780"/>
                  <a:pt x="14089" y="13692"/>
                </a:cubicBezTo>
              </a:path>
              <a:path w="572" h="646">
                <a:moveTo>
                  <a:pt x="14139" y="13122"/>
                </a:moveTo>
                <a:cubicBezTo>
                  <a:pt x="13980" y="13319"/>
                  <a:pt x="13839" y="13503"/>
                  <a:pt x="13643" y="13667"/>
                </a:cubicBezTo>
                <a:cubicBezTo>
                  <a:pt x="13563" y="13734"/>
                  <a:pt x="13568" y="13692"/>
                  <a:pt x="13568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22960" y="4724280"/>
            <a:ext cx="365040" cy="214560"/>
          </a:xfrm>
          <a:custGeom>
            <a:avLst/>
            <a:gdLst/>
            <a:ahLst/>
            <a:rect l="l" t="t" r="r" b="b"/>
            <a:pathLst>
              <a:path w="1018" h="596">
                <a:moveTo>
                  <a:pt x="14808" y="13122"/>
                </a:moveTo>
                <a:cubicBezTo>
                  <a:pt x="14786" y="13261"/>
                  <a:pt x="14724" y="13492"/>
                  <a:pt x="14957" y="13469"/>
                </a:cubicBezTo>
                <a:cubicBezTo>
                  <a:pt x="15067" y="13424"/>
                  <a:pt x="15096" y="13416"/>
                  <a:pt x="15156" y="13370"/>
                </a:cubicBezTo>
              </a:path>
              <a:path w="1018" h="596">
                <a:moveTo>
                  <a:pt x="15131" y="13171"/>
                </a:moveTo>
                <a:cubicBezTo>
                  <a:pt x="15110" y="13347"/>
                  <a:pt x="15088" y="13518"/>
                  <a:pt x="15056" y="13692"/>
                </a:cubicBezTo>
              </a:path>
              <a:path w="1018" h="596">
                <a:moveTo>
                  <a:pt x="15528" y="13221"/>
                </a:moveTo>
                <a:cubicBezTo>
                  <a:pt x="15416" y="13421"/>
                  <a:pt x="15389" y="13451"/>
                  <a:pt x="15429" y="13667"/>
                </a:cubicBezTo>
                <a:cubicBezTo>
                  <a:pt x="15643" y="13708"/>
                  <a:pt x="15937" y="13607"/>
                  <a:pt x="15776" y="13295"/>
                </a:cubicBezTo>
                <a:cubicBezTo>
                  <a:pt x="15632" y="13175"/>
                  <a:pt x="15589" y="13134"/>
                  <a:pt x="15453" y="131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68800" y="5392800"/>
            <a:ext cx="1322280" cy="349200"/>
          </a:xfrm>
          <a:custGeom>
            <a:avLst/>
            <a:gdLst/>
            <a:ahLst/>
            <a:rect l="l" t="t" r="r" b="b"/>
            <a:pathLst>
              <a:path w="3672" h="968">
                <a:moveTo>
                  <a:pt x="9079" y="15379"/>
                </a:moveTo>
                <a:cubicBezTo>
                  <a:pt x="9120" y="15563"/>
                  <a:pt x="9170" y="15736"/>
                  <a:pt x="9178" y="15925"/>
                </a:cubicBezTo>
                <a:cubicBezTo>
                  <a:pt x="9178" y="15933"/>
                  <a:pt x="9178" y="15941"/>
                  <a:pt x="9178" y="15949"/>
                </a:cubicBezTo>
                <a:cubicBezTo>
                  <a:pt x="9153" y="15752"/>
                  <a:pt x="9052" y="15395"/>
                  <a:pt x="9277" y="15280"/>
                </a:cubicBezTo>
                <a:cubicBezTo>
                  <a:pt x="9551" y="15140"/>
                  <a:pt x="9671" y="15646"/>
                  <a:pt x="9699" y="15801"/>
                </a:cubicBezTo>
                <a:cubicBezTo>
                  <a:pt x="9699" y="15817"/>
                  <a:pt x="9699" y="15834"/>
                  <a:pt x="9699" y="15850"/>
                </a:cubicBezTo>
              </a:path>
              <a:path w="3672" h="968">
                <a:moveTo>
                  <a:pt x="9996" y="15429"/>
                </a:moveTo>
                <a:cubicBezTo>
                  <a:pt x="10145" y="15408"/>
                  <a:pt x="10177" y="15399"/>
                  <a:pt x="10269" y="15404"/>
                </a:cubicBezTo>
              </a:path>
              <a:path w="3672" h="968">
                <a:moveTo>
                  <a:pt x="9947" y="15701"/>
                </a:moveTo>
                <a:cubicBezTo>
                  <a:pt x="10098" y="15677"/>
                  <a:pt x="10149" y="15668"/>
                  <a:pt x="10244" y="15627"/>
                </a:cubicBezTo>
              </a:path>
              <a:path w="3672" h="968">
                <a:moveTo>
                  <a:pt x="10840" y="15106"/>
                </a:moveTo>
                <a:cubicBezTo>
                  <a:pt x="10853" y="15182"/>
                  <a:pt x="10891" y="15763"/>
                  <a:pt x="10939" y="15776"/>
                </a:cubicBezTo>
                <a:cubicBezTo>
                  <a:pt x="10955" y="15768"/>
                  <a:pt x="10972" y="15759"/>
                  <a:pt x="10988" y="15751"/>
                </a:cubicBezTo>
              </a:path>
              <a:path w="3672" h="968">
                <a:moveTo>
                  <a:pt x="11212" y="15677"/>
                </a:moveTo>
                <a:cubicBezTo>
                  <a:pt x="11212" y="15685"/>
                  <a:pt x="11212" y="15693"/>
                  <a:pt x="11212" y="15701"/>
                </a:cubicBezTo>
              </a:path>
              <a:path w="3672" h="968">
                <a:moveTo>
                  <a:pt x="11212" y="15701"/>
                </a:moveTo>
                <a:lnTo>
                  <a:pt x="11212" y="15701"/>
                </a:lnTo>
              </a:path>
              <a:path w="3672" h="968">
                <a:moveTo>
                  <a:pt x="11708" y="14982"/>
                </a:moveTo>
                <a:cubicBezTo>
                  <a:pt x="11725" y="15155"/>
                  <a:pt x="11733" y="15301"/>
                  <a:pt x="11708" y="15478"/>
                </a:cubicBezTo>
                <a:cubicBezTo>
                  <a:pt x="11687" y="15603"/>
                  <a:pt x="11671" y="15630"/>
                  <a:pt x="11708" y="15701"/>
                </a:cubicBezTo>
                <a:cubicBezTo>
                  <a:pt x="11913" y="15667"/>
                  <a:pt x="11985" y="15618"/>
                  <a:pt x="12080" y="15429"/>
                </a:cubicBezTo>
                <a:cubicBezTo>
                  <a:pt x="11955" y="15398"/>
                  <a:pt x="11917" y="15503"/>
                  <a:pt x="11881" y="15627"/>
                </a:cubicBezTo>
                <a:cubicBezTo>
                  <a:pt x="11881" y="15644"/>
                  <a:pt x="11881" y="15660"/>
                  <a:pt x="11881" y="15677"/>
                </a:cubicBezTo>
              </a:path>
              <a:path w="3672" h="968">
                <a:moveTo>
                  <a:pt x="12576" y="15007"/>
                </a:moveTo>
                <a:cubicBezTo>
                  <a:pt x="12535" y="14885"/>
                  <a:pt x="12433" y="15155"/>
                  <a:pt x="12402" y="15280"/>
                </a:cubicBezTo>
                <a:cubicBezTo>
                  <a:pt x="12381" y="15454"/>
                  <a:pt x="12368" y="15496"/>
                  <a:pt x="12402" y="15602"/>
                </a:cubicBezTo>
                <a:cubicBezTo>
                  <a:pt x="12615" y="15638"/>
                  <a:pt x="12823" y="15513"/>
                  <a:pt x="12750" y="15230"/>
                </a:cubicBezTo>
                <a:cubicBezTo>
                  <a:pt x="12665" y="15146"/>
                  <a:pt x="12625" y="15121"/>
                  <a:pt x="12526" y="15156"/>
                </a:cubicBezTo>
              </a:path>
              <a:path w="3672" h="968">
                <a:moveTo>
                  <a:pt x="11212" y="15751"/>
                </a:moveTo>
                <a:cubicBezTo>
                  <a:pt x="11180" y="15762"/>
                  <a:pt x="11173" y="15769"/>
                  <a:pt x="11162" y="15801"/>
                </a:cubicBezTo>
                <a:cubicBezTo>
                  <a:pt x="11196" y="15778"/>
                  <a:pt x="11260" y="15689"/>
                  <a:pt x="11162" y="15751"/>
                </a:cubicBezTo>
                <a:cubicBezTo>
                  <a:pt x="11154" y="15759"/>
                  <a:pt x="11145" y="15768"/>
                  <a:pt x="11137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5143680"/>
            <a:ext cx="830160" cy="803160"/>
          </a:xfrm>
          <a:custGeom>
            <a:avLst/>
            <a:gdLst/>
            <a:ahLst/>
            <a:rect l="l" t="t" r="r" b="b"/>
            <a:pathLst>
              <a:path w="2308" h="2233">
                <a:moveTo>
                  <a:pt x="16718" y="14288"/>
                </a:moveTo>
                <a:cubicBezTo>
                  <a:pt x="16700" y="14380"/>
                  <a:pt x="16590" y="14665"/>
                  <a:pt x="16793" y="14660"/>
                </a:cubicBezTo>
                <a:cubicBezTo>
                  <a:pt x="16937" y="14656"/>
                  <a:pt x="16986" y="14586"/>
                  <a:pt x="17041" y="14486"/>
                </a:cubicBezTo>
              </a:path>
              <a:path w="2308" h="2233">
                <a:moveTo>
                  <a:pt x="16966" y="14288"/>
                </a:moveTo>
                <a:cubicBezTo>
                  <a:pt x="16944" y="14496"/>
                  <a:pt x="16942" y="14699"/>
                  <a:pt x="16942" y="14908"/>
                </a:cubicBezTo>
              </a:path>
              <a:path w="2308" h="2233">
                <a:moveTo>
                  <a:pt x="17264" y="14436"/>
                </a:moveTo>
                <a:cubicBezTo>
                  <a:pt x="17228" y="14624"/>
                  <a:pt x="17224" y="14700"/>
                  <a:pt x="17289" y="14883"/>
                </a:cubicBezTo>
                <a:cubicBezTo>
                  <a:pt x="17516" y="14874"/>
                  <a:pt x="17856" y="14748"/>
                  <a:pt x="17611" y="14436"/>
                </a:cubicBezTo>
                <a:cubicBezTo>
                  <a:pt x="17465" y="14364"/>
                  <a:pt x="17419" y="14338"/>
                  <a:pt x="17314" y="14412"/>
                </a:cubicBezTo>
              </a:path>
              <a:path w="2308" h="2233">
                <a:moveTo>
                  <a:pt x="16346" y="15404"/>
                </a:moveTo>
                <a:cubicBezTo>
                  <a:pt x="16443" y="15494"/>
                  <a:pt x="16536" y="15577"/>
                  <a:pt x="16619" y="15677"/>
                </a:cubicBezTo>
              </a:path>
              <a:path w="2308" h="2233">
                <a:moveTo>
                  <a:pt x="16594" y="15255"/>
                </a:moveTo>
                <a:cubicBezTo>
                  <a:pt x="16586" y="15285"/>
                  <a:pt x="16447" y="15746"/>
                  <a:pt x="16470" y="15751"/>
                </a:cubicBezTo>
                <a:cubicBezTo>
                  <a:pt x="16495" y="15743"/>
                  <a:pt x="16520" y="15734"/>
                  <a:pt x="16545" y="15726"/>
                </a:cubicBezTo>
              </a:path>
              <a:path w="2308" h="2233">
                <a:moveTo>
                  <a:pt x="17190" y="15553"/>
                </a:moveTo>
                <a:cubicBezTo>
                  <a:pt x="17162" y="15587"/>
                  <a:pt x="17149" y="15609"/>
                  <a:pt x="17140" y="15652"/>
                </a:cubicBezTo>
                <a:cubicBezTo>
                  <a:pt x="17185" y="15629"/>
                  <a:pt x="17190" y="15607"/>
                  <a:pt x="17190" y="15553"/>
                </a:cubicBezTo>
              </a:path>
              <a:path w="2308" h="2233">
                <a:moveTo>
                  <a:pt x="17388" y="15255"/>
                </a:moveTo>
                <a:cubicBezTo>
                  <a:pt x="17396" y="15404"/>
                  <a:pt x="17464" y="15580"/>
                  <a:pt x="17661" y="15429"/>
                </a:cubicBezTo>
                <a:cubicBezTo>
                  <a:pt x="17678" y="15396"/>
                  <a:pt x="17694" y="15362"/>
                  <a:pt x="17711" y="15329"/>
                </a:cubicBezTo>
              </a:path>
              <a:path w="2308" h="2233">
                <a:moveTo>
                  <a:pt x="17587" y="14982"/>
                </a:moveTo>
                <a:cubicBezTo>
                  <a:pt x="17654" y="15211"/>
                  <a:pt x="17708" y="15439"/>
                  <a:pt x="17735" y="15677"/>
                </a:cubicBezTo>
                <a:cubicBezTo>
                  <a:pt x="17735" y="15693"/>
                  <a:pt x="17735" y="15710"/>
                  <a:pt x="17735" y="15726"/>
                </a:cubicBezTo>
              </a:path>
              <a:path w="2308" h="2233">
                <a:moveTo>
                  <a:pt x="16024" y="15999"/>
                </a:moveTo>
                <a:cubicBezTo>
                  <a:pt x="16649" y="15917"/>
                  <a:pt x="17278" y="15848"/>
                  <a:pt x="17909" y="15825"/>
                </a:cubicBezTo>
                <a:cubicBezTo>
                  <a:pt x="18047" y="15820"/>
                  <a:pt x="18191" y="15825"/>
                  <a:pt x="18331" y="15825"/>
                </a:cubicBezTo>
              </a:path>
              <a:path w="2308" h="2233">
                <a:moveTo>
                  <a:pt x="17884" y="15974"/>
                </a:moveTo>
                <a:cubicBezTo>
                  <a:pt x="17769" y="16090"/>
                  <a:pt x="17608" y="16188"/>
                  <a:pt x="17636" y="16371"/>
                </a:cubicBezTo>
                <a:cubicBezTo>
                  <a:pt x="17676" y="16633"/>
                  <a:pt x="18026" y="16505"/>
                  <a:pt x="18107" y="16346"/>
                </a:cubicBezTo>
                <a:cubicBezTo>
                  <a:pt x="18204" y="16155"/>
                  <a:pt x="18066" y="16073"/>
                  <a:pt x="17909" y="16049"/>
                </a:cubicBezTo>
                <a:cubicBezTo>
                  <a:pt x="17892" y="16049"/>
                  <a:pt x="17876" y="16049"/>
                  <a:pt x="17859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5080" y="3438360"/>
            <a:ext cx="1697040" cy="392400"/>
          </a:xfrm>
          <a:custGeom>
            <a:avLst/>
            <a:gdLst/>
            <a:ahLst/>
            <a:rect l="l" t="t" r="r" b="b"/>
            <a:pathLst>
              <a:path w="4714" h="1092">
                <a:moveTo>
                  <a:pt x="17611" y="10071"/>
                </a:moveTo>
                <a:cubicBezTo>
                  <a:pt x="17613" y="10064"/>
                  <a:pt x="17646" y="10001"/>
                  <a:pt x="17661" y="10021"/>
                </a:cubicBezTo>
                <a:cubicBezTo>
                  <a:pt x="17686" y="10054"/>
                  <a:pt x="17912" y="9892"/>
                  <a:pt x="17959" y="10096"/>
                </a:cubicBezTo>
                <a:cubicBezTo>
                  <a:pt x="18013" y="10329"/>
                  <a:pt x="17710" y="10562"/>
                  <a:pt x="17512" y="10418"/>
                </a:cubicBezTo>
                <a:cubicBezTo>
                  <a:pt x="17504" y="10393"/>
                  <a:pt x="17495" y="10369"/>
                  <a:pt x="17487" y="10344"/>
                </a:cubicBezTo>
                <a:cubicBezTo>
                  <a:pt x="17611" y="10251"/>
                  <a:pt x="17697" y="10318"/>
                  <a:pt x="17835" y="10393"/>
                </a:cubicBezTo>
                <a:cubicBezTo>
                  <a:pt x="17884" y="10418"/>
                  <a:pt x="17901" y="10426"/>
                  <a:pt x="17934" y="10393"/>
                </a:cubicBezTo>
              </a:path>
              <a:path w="4714" h="1092">
                <a:moveTo>
                  <a:pt x="18331" y="9996"/>
                </a:moveTo>
                <a:cubicBezTo>
                  <a:pt x="18188" y="10120"/>
                  <a:pt x="18227" y="10225"/>
                  <a:pt x="18281" y="10393"/>
                </a:cubicBezTo>
                <a:cubicBezTo>
                  <a:pt x="18387" y="10393"/>
                  <a:pt x="18676" y="10333"/>
                  <a:pt x="18653" y="10145"/>
                </a:cubicBezTo>
                <a:cubicBezTo>
                  <a:pt x="18628" y="9935"/>
                  <a:pt x="18347" y="9955"/>
                  <a:pt x="18207" y="9971"/>
                </a:cubicBezTo>
              </a:path>
              <a:path w="4714" h="1092">
                <a:moveTo>
                  <a:pt x="17239" y="10641"/>
                </a:moveTo>
                <a:cubicBezTo>
                  <a:pt x="17231" y="10492"/>
                  <a:pt x="17208" y="10365"/>
                  <a:pt x="17165" y="10220"/>
                </a:cubicBezTo>
                <a:cubicBezTo>
                  <a:pt x="17137" y="10125"/>
                  <a:pt x="17095" y="10044"/>
                  <a:pt x="17090" y="9947"/>
                </a:cubicBezTo>
                <a:cubicBezTo>
                  <a:pt x="17088" y="9902"/>
                  <a:pt x="17074" y="9883"/>
                  <a:pt x="17066" y="9847"/>
                </a:cubicBezTo>
                <a:cubicBezTo>
                  <a:pt x="17066" y="9839"/>
                  <a:pt x="17066" y="9831"/>
                  <a:pt x="17066" y="9823"/>
                </a:cubicBezTo>
                <a:cubicBezTo>
                  <a:pt x="17355" y="9823"/>
                  <a:pt x="17623" y="9794"/>
                  <a:pt x="17909" y="9748"/>
                </a:cubicBezTo>
                <a:cubicBezTo>
                  <a:pt x="18214" y="9699"/>
                  <a:pt x="18518" y="9635"/>
                  <a:pt x="18827" y="9624"/>
                </a:cubicBezTo>
                <a:cubicBezTo>
                  <a:pt x="18852" y="9624"/>
                  <a:pt x="18860" y="9624"/>
                  <a:pt x="18876" y="9624"/>
                </a:cubicBezTo>
              </a:path>
              <a:path w="4714" h="1092">
                <a:moveTo>
                  <a:pt x="15429" y="10046"/>
                </a:moveTo>
                <a:cubicBezTo>
                  <a:pt x="15429" y="10207"/>
                  <a:pt x="15421" y="10359"/>
                  <a:pt x="15404" y="10517"/>
                </a:cubicBezTo>
                <a:cubicBezTo>
                  <a:pt x="15404" y="10552"/>
                  <a:pt x="15409" y="10551"/>
                  <a:pt x="15429" y="10492"/>
                </a:cubicBezTo>
              </a:path>
              <a:path w="4714" h="1092">
                <a:moveTo>
                  <a:pt x="15627" y="10120"/>
                </a:moveTo>
                <a:cubicBezTo>
                  <a:pt x="15668" y="10262"/>
                  <a:pt x="15641" y="10438"/>
                  <a:pt x="15701" y="10567"/>
                </a:cubicBezTo>
                <a:cubicBezTo>
                  <a:pt x="15798" y="10775"/>
                  <a:pt x="16060" y="10408"/>
                  <a:pt x="16098" y="10344"/>
                </a:cubicBezTo>
                <a:cubicBezTo>
                  <a:pt x="16106" y="10319"/>
                  <a:pt x="16115" y="10294"/>
                  <a:pt x="16123" y="10269"/>
                </a:cubicBezTo>
                <a:cubicBezTo>
                  <a:pt x="16003" y="10269"/>
                  <a:pt x="15945" y="10332"/>
                  <a:pt x="15900" y="10443"/>
                </a:cubicBezTo>
                <a:cubicBezTo>
                  <a:pt x="15900" y="10517"/>
                  <a:pt x="15925" y="10533"/>
                  <a:pt x="16024" y="10492"/>
                </a:cubicBezTo>
              </a:path>
              <a:path w="4714" h="1092">
                <a:moveTo>
                  <a:pt x="16470" y="9996"/>
                </a:moveTo>
                <a:cubicBezTo>
                  <a:pt x="16371" y="10079"/>
                  <a:pt x="16278" y="10304"/>
                  <a:pt x="16371" y="10443"/>
                </a:cubicBezTo>
                <a:cubicBezTo>
                  <a:pt x="16404" y="10459"/>
                  <a:pt x="16437" y="10476"/>
                  <a:pt x="16470" y="10492"/>
                </a:cubicBezTo>
                <a:cubicBezTo>
                  <a:pt x="16588" y="10424"/>
                  <a:pt x="16890" y="10192"/>
                  <a:pt x="16669" y="10021"/>
                </a:cubicBezTo>
                <a:cubicBezTo>
                  <a:pt x="16528" y="9997"/>
                  <a:pt x="16486" y="9987"/>
                  <a:pt x="16396" y="10021"/>
                </a:cubicBezTo>
              </a:path>
              <a:path w="4714" h="1092">
                <a:moveTo>
                  <a:pt x="18827" y="9550"/>
                </a:moveTo>
                <a:cubicBezTo>
                  <a:pt x="18851" y="9623"/>
                  <a:pt x="18936" y="9750"/>
                  <a:pt x="19000" y="9798"/>
                </a:cubicBezTo>
                <a:cubicBezTo>
                  <a:pt x="19105" y="9877"/>
                  <a:pt x="19312" y="9869"/>
                  <a:pt x="19422" y="9798"/>
                </a:cubicBezTo>
                <a:cubicBezTo>
                  <a:pt x="19440" y="9786"/>
                  <a:pt x="19447" y="9703"/>
                  <a:pt x="19447" y="9674"/>
                </a:cubicBezTo>
                <a:cubicBezTo>
                  <a:pt x="19462" y="9746"/>
                  <a:pt x="19537" y="9819"/>
                  <a:pt x="19621" y="9823"/>
                </a:cubicBezTo>
                <a:cubicBezTo>
                  <a:pt x="19792" y="9832"/>
                  <a:pt x="19997" y="9744"/>
                  <a:pt x="20117" y="9624"/>
                </a:cubicBezTo>
                <a:cubicBezTo>
                  <a:pt x="20117" y="9599"/>
                  <a:pt x="20117" y="9591"/>
                  <a:pt x="20117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15160" y="3276720"/>
            <a:ext cx="1170000" cy="322200"/>
          </a:xfrm>
          <a:custGeom>
            <a:avLst/>
            <a:gdLst/>
            <a:ahLst/>
            <a:rect l="l" t="t" r="r" b="b"/>
            <a:pathLst>
              <a:path w="3251" h="894">
                <a:moveTo>
                  <a:pt x="21431" y="9525"/>
                </a:moveTo>
                <a:cubicBezTo>
                  <a:pt x="21548" y="9525"/>
                  <a:pt x="21582" y="9527"/>
                  <a:pt x="21654" y="9500"/>
                </a:cubicBezTo>
              </a:path>
              <a:path w="3251" h="894">
                <a:moveTo>
                  <a:pt x="21481" y="9723"/>
                </a:moveTo>
                <a:cubicBezTo>
                  <a:pt x="21680" y="9667"/>
                  <a:pt x="21763" y="9643"/>
                  <a:pt x="21903" y="9599"/>
                </a:cubicBezTo>
              </a:path>
              <a:path w="3251" h="894">
                <a:moveTo>
                  <a:pt x="22399" y="9327"/>
                </a:moveTo>
                <a:cubicBezTo>
                  <a:pt x="22421" y="9496"/>
                  <a:pt x="22471" y="9842"/>
                  <a:pt x="22498" y="9922"/>
                </a:cubicBezTo>
              </a:path>
              <a:path w="3251" h="894">
                <a:moveTo>
                  <a:pt x="22671" y="9327"/>
                </a:moveTo>
                <a:cubicBezTo>
                  <a:pt x="22900" y="9346"/>
                  <a:pt x="23155" y="9407"/>
                  <a:pt x="23068" y="9723"/>
                </a:cubicBezTo>
                <a:cubicBezTo>
                  <a:pt x="23018" y="9906"/>
                  <a:pt x="22909" y="9907"/>
                  <a:pt x="22771" y="9897"/>
                </a:cubicBezTo>
                <a:cubicBezTo>
                  <a:pt x="22771" y="9779"/>
                  <a:pt x="22855" y="9649"/>
                  <a:pt x="22994" y="9773"/>
                </a:cubicBezTo>
                <a:cubicBezTo>
                  <a:pt x="23085" y="9854"/>
                  <a:pt x="23082" y="9904"/>
                  <a:pt x="23044" y="9996"/>
                </a:cubicBezTo>
              </a:path>
              <a:path w="3251" h="894">
                <a:moveTo>
                  <a:pt x="23341" y="9798"/>
                </a:moveTo>
                <a:cubicBezTo>
                  <a:pt x="23341" y="9881"/>
                  <a:pt x="23381" y="9828"/>
                  <a:pt x="23391" y="9798"/>
                </a:cubicBezTo>
              </a:path>
              <a:path w="3251" h="894">
                <a:moveTo>
                  <a:pt x="23812" y="9252"/>
                </a:moveTo>
                <a:cubicBezTo>
                  <a:pt x="23632" y="9286"/>
                  <a:pt x="23606" y="9249"/>
                  <a:pt x="23589" y="9451"/>
                </a:cubicBezTo>
                <a:cubicBezTo>
                  <a:pt x="23589" y="9484"/>
                  <a:pt x="23589" y="9517"/>
                  <a:pt x="23589" y="9550"/>
                </a:cubicBezTo>
                <a:cubicBezTo>
                  <a:pt x="23711" y="9507"/>
                  <a:pt x="23942" y="9357"/>
                  <a:pt x="24036" y="9550"/>
                </a:cubicBezTo>
                <a:cubicBezTo>
                  <a:pt x="24036" y="9591"/>
                  <a:pt x="24036" y="9633"/>
                  <a:pt x="24036" y="9674"/>
                </a:cubicBezTo>
                <a:cubicBezTo>
                  <a:pt x="23848" y="9798"/>
                  <a:pt x="23775" y="9799"/>
                  <a:pt x="23614" y="9649"/>
                </a:cubicBezTo>
              </a:path>
              <a:path w="3251" h="894">
                <a:moveTo>
                  <a:pt x="24085" y="9153"/>
                </a:moveTo>
                <a:cubicBezTo>
                  <a:pt x="24105" y="9245"/>
                  <a:pt x="24115" y="9323"/>
                  <a:pt x="24160" y="9401"/>
                </a:cubicBezTo>
                <a:cubicBezTo>
                  <a:pt x="24311" y="9340"/>
                  <a:pt x="24183" y="9265"/>
                  <a:pt x="24135" y="9178"/>
                </a:cubicBezTo>
                <a:cubicBezTo>
                  <a:pt x="24135" y="9153"/>
                  <a:pt x="24135" y="9145"/>
                  <a:pt x="24135" y="9128"/>
                </a:cubicBezTo>
                <a:cubicBezTo>
                  <a:pt x="24255" y="9116"/>
                  <a:pt x="24407" y="9059"/>
                  <a:pt x="24457" y="9227"/>
                </a:cubicBezTo>
                <a:cubicBezTo>
                  <a:pt x="24525" y="9452"/>
                  <a:pt x="24368" y="9615"/>
                  <a:pt x="24209" y="9723"/>
                </a:cubicBezTo>
              </a:path>
              <a:path w="3251" h="894">
                <a:moveTo>
                  <a:pt x="24557" y="9624"/>
                </a:moveTo>
                <a:cubicBezTo>
                  <a:pt x="24562" y="9675"/>
                  <a:pt x="24565" y="9778"/>
                  <a:pt x="24656" y="9748"/>
                </a:cubicBezTo>
                <a:cubicBezTo>
                  <a:pt x="24788" y="9704"/>
                  <a:pt x="24552" y="9631"/>
                  <a:pt x="24532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57920" y="5483160"/>
            <a:ext cx="758880" cy="1089000"/>
          </a:xfrm>
          <a:custGeom>
            <a:avLst/>
            <a:gdLst/>
            <a:ahLst/>
            <a:rect l="l" t="t" r="r" b="b"/>
            <a:pathLst>
              <a:path w="2109" h="3027">
                <a:moveTo>
                  <a:pt x="17165" y="15255"/>
                </a:moveTo>
                <a:cubicBezTo>
                  <a:pt x="17139" y="15178"/>
                  <a:pt x="17092" y="15328"/>
                  <a:pt x="17066" y="15404"/>
                </a:cubicBezTo>
                <a:cubicBezTo>
                  <a:pt x="17022" y="15536"/>
                  <a:pt x="17001" y="15567"/>
                  <a:pt x="17041" y="15652"/>
                </a:cubicBezTo>
                <a:cubicBezTo>
                  <a:pt x="17220" y="15685"/>
                  <a:pt x="17279" y="15619"/>
                  <a:pt x="17264" y="15429"/>
                </a:cubicBezTo>
                <a:cubicBezTo>
                  <a:pt x="17251" y="15264"/>
                  <a:pt x="17135" y="15290"/>
                  <a:pt x="17041" y="15354"/>
                </a:cubicBezTo>
              </a:path>
              <a:path w="2109" h="3027">
                <a:moveTo>
                  <a:pt x="16942" y="15825"/>
                </a:moveTo>
                <a:cubicBezTo>
                  <a:pt x="16918" y="15757"/>
                  <a:pt x="16917" y="15856"/>
                  <a:pt x="16917" y="15801"/>
                </a:cubicBezTo>
                <a:cubicBezTo>
                  <a:pt x="16917" y="15749"/>
                  <a:pt x="16791" y="15749"/>
                  <a:pt x="16793" y="15801"/>
                </a:cubicBezTo>
                <a:cubicBezTo>
                  <a:pt x="16795" y="15839"/>
                  <a:pt x="16842" y="15740"/>
                  <a:pt x="16842" y="15801"/>
                </a:cubicBezTo>
              </a:path>
              <a:path w="2109" h="3027">
                <a:moveTo>
                  <a:pt x="16446" y="16173"/>
                </a:moveTo>
                <a:cubicBezTo>
                  <a:pt x="16486" y="16357"/>
                  <a:pt x="16338" y="16769"/>
                  <a:pt x="16520" y="16718"/>
                </a:cubicBezTo>
                <a:cubicBezTo>
                  <a:pt x="16528" y="16702"/>
                  <a:pt x="16537" y="16685"/>
                  <a:pt x="16545" y="16669"/>
                </a:cubicBezTo>
              </a:path>
              <a:path w="2109" h="3027">
                <a:moveTo>
                  <a:pt x="16768" y="16098"/>
                </a:moveTo>
                <a:cubicBezTo>
                  <a:pt x="16768" y="16260"/>
                  <a:pt x="16718" y="16481"/>
                  <a:pt x="16818" y="16619"/>
                </a:cubicBezTo>
                <a:cubicBezTo>
                  <a:pt x="16843" y="16636"/>
                  <a:pt x="16867" y="16652"/>
                  <a:pt x="16892" y="16669"/>
                </a:cubicBezTo>
                <a:cubicBezTo>
                  <a:pt x="17059" y="16575"/>
                  <a:pt x="17129" y="16541"/>
                  <a:pt x="17115" y="16346"/>
                </a:cubicBezTo>
                <a:cubicBezTo>
                  <a:pt x="17049" y="16346"/>
                  <a:pt x="16831" y="16515"/>
                  <a:pt x="16942" y="16619"/>
                </a:cubicBezTo>
                <a:cubicBezTo>
                  <a:pt x="16975" y="16619"/>
                  <a:pt x="17008" y="16619"/>
                  <a:pt x="17041" y="16619"/>
                </a:cubicBezTo>
              </a:path>
              <a:path w="2109" h="3027">
                <a:moveTo>
                  <a:pt x="17884" y="16619"/>
                </a:moveTo>
                <a:cubicBezTo>
                  <a:pt x="17764" y="16619"/>
                  <a:pt x="17717" y="16736"/>
                  <a:pt x="17661" y="16842"/>
                </a:cubicBezTo>
                <a:cubicBezTo>
                  <a:pt x="17615" y="16957"/>
                  <a:pt x="17596" y="16988"/>
                  <a:pt x="17636" y="17066"/>
                </a:cubicBezTo>
                <a:cubicBezTo>
                  <a:pt x="17733" y="17092"/>
                  <a:pt x="18109" y="17033"/>
                  <a:pt x="17959" y="16818"/>
                </a:cubicBezTo>
                <a:cubicBezTo>
                  <a:pt x="17918" y="16801"/>
                  <a:pt x="17876" y="16785"/>
                  <a:pt x="17835" y="16768"/>
                </a:cubicBezTo>
              </a:path>
              <a:path w="2109" h="3027">
                <a:moveTo>
                  <a:pt x="17239" y="16966"/>
                </a:moveTo>
                <a:cubicBezTo>
                  <a:pt x="17175" y="17056"/>
                  <a:pt x="17147" y="17132"/>
                  <a:pt x="17115" y="17239"/>
                </a:cubicBezTo>
                <a:cubicBezTo>
                  <a:pt x="17223" y="17256"/>
                  <a:pt x="17446" y="17252"/>
                  <a:pt x="17388" y="17066"/>
                </a:cubicBezTo>
                <a:cubicBezTo>
                  <a:pt x="17319" y="16973"/>
                  <a:pt x="17302" y="16939"/>
                  <a:pt x="17214" y="16966"/>
                </a:cubicBezTo>
              </a:path>
              <a:path w="2109" h="3027">
                <a:moveTo>
                  <a:pt x="16570" y="17016"/>
                </a:moveTo>
                <a:cubicBezTo>
                  <a:pt x="16507" y="17125"/>
                  <a:pt x="16485" y="17191"/>
                  <a:pt x="16470" y="17314"/>
                </a:cubicBezTo>
                <a:cubicBezTo>
                  <a:pt x="16594" y="17320"/>
                  <a:pt x="16869" y="17325"/>
                  <a:pt x="16818" y="17115"/>
                </a:cubicBezTo>
                <a:cubicBezTo>
                  <a:pt x="16760" y="17059"/>
                  <a:pt x="16733" y="17045"/>
                  <a:pt x="16669" y="17090"/>
                </a:cubicBezTo>
              </a:path>
              <a:path w="2109" h="3027">
                <a:moveTo>
                  <a:pt x="16272" y="17537"/>
                </a:moveTo>
                <a:cubicBezTo>
                  <a:pt x="16763" y="17460"/>
                  <a:pt x="17247" y="17359"/>
                  <a:pt x="17735" y="17264"/>
                </a:cubicBezTo>
                <a:cubicBezTo>
                  <a:pt x="17958" y="17221"/>
                  <a:pt x="18133" y="17187"/>
                  <a:pt x="18355" y="17140"/>
                </a:cubicBezTo>
              </a:path>
              <a:path w="2109" h="3027">
                <a:moveTo>
                  <a:pt x="18231" y="17462"/>
                </a:moveTo>
                <a:cubicBezTo>
                  <a:pt x="18080" y="17477"/>
                  <a:pt x="17927" y="17569"/>
                  <a:pt x="17884" y="17735"/>
                </a:cubicBezTo>
                <a:cubicBezTo>
                  <a:pt x="17892" y="17768"/>
                  <a:pt x="17901" y="17802"/>
                  <a:pt x="17909" y="17835"/>
                </a:cubicBezTo>
                <a:cubicBezTo>
                  <a:pt x="17994" y="17840"/>
                  <a:pt x="18374" y="17785"/>
                  <a:pt x="18231" y="17587"/>
                </a:cubicBezTo>
                <a:cubicBezTo>
                  <a:pt x="18190" y="17570"/>
                  <a:pt x="18148" y="17554"/>
                  <a:pt x="18107" y="17537"/>
                </a:cubicBezTo>
              </a:path>
              <a:path w="2109" h="3027">
                <a:moveTo>
                  <a:pt x="17314" y="17636"/>
                </a:moveTo>
                <a:cubicBezTo>
                  <a:pt x="17314" y="17742"/>
                  <a:pt x="17263" y="17853"/>
                  <a:pt x="17289" y="17959"/>
                </a:cubicBezTo>
                <a:cubicBezTo>
                  <a:pt x="17305" y="17984"/>
                  <a:pt x="17322" y="18008"/>
                  <a:pt x="17338" y="18033"/>
                </a:cubicBezTo>
                <a:cubicBezTo>
                  <a:pt x="17534" y="18007"/>
                  <a:pt x="17548" y="17954"/>
                  <a:pt x="17537" y="17760"/>
                </a:cubicBezTo>
                <a:cubicBezTo>
                  <a:pt x="17375" y="17809"/>
                  <a:pt x="17363" y="17887"/>
                  <a:pt x="17314" y="18033"/>
                </a:cubicBezTo>
                <a:cubicBezTo>
                  <a:pt x="17314" y="18025"/>
                  <a:pt x="17314" y="18016"/>
                  <a:pt x="17314" y="18008"/>
                </a:cubicBezTo>
              </a:path>
              <a:path w="2109" h="3027">
                <a:moveTo>
                  <a:pt x="16818" y="17785"/>
                </a:moveTo>
                <a:cubicBezTo>
                  <a:pt x="16818" y="17708"/>
                  <a:pt x="16842" y="18056"/>
                  <a:pt x="16842" y="18058"/>
                </a:cubicBezTo>
                <a:cubicBezTo>
                  <a:pt x="16842" y="18116"/>
                  <a:pt x="16842" y="18124"/>
                  <a:pt x="16842" y="18157"/>
                </a:cubicBezTo>
              </a:path>
              <a:path w="2109" h="3027">
                <a:moveTo>
                  <a:pt x="17190" y="18157"/>
                </a:moveTo>
                <a:cubicBezTo>
                  <a:pt x="17160" y="18187"/>
                  <a:pt x="17149" y="18201"/>
                  <a:pt x="17140" y="18231"/>
                </a:cubicBezTo>
                <a:cubicBezTo>
                  <a:pt x="17164" y="18280"/>
                  <a:pt x="17244" y="18138"/>
                  <a:pt x="17190" y="18132"/>
                </a:cubicBezTo>
                <a:cubicBezTo>
                  <a:pt x="17184" y="18131"/>
                  <a:pt x="16987" y="18227"/>
                  <a:pt x="17190" y="181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pg. 1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10 Percent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0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Vocabulary: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nt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decrease in the price of an item is a discount.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89160" y="2205000"/>
            <a:ext cx="1546200" cy="430200"/>
          </a:xfrm>
          <a:custGeom>
            <a:avLst/>
            <a:gdLst/>
            <a:ahLst/>
            <a:rect l="l" t="t" r="r" b="b"/>
            <a:pathLst>
              <a:path w="4293" h="1191">
                <a:moveTo>
                  <a:pt x="9227" y="6152"/>
                </a:moveTo>
                <a:cubicBezTo>
                  <a:pt x="9080" y="6176"/>
                  <a:pt x="8989" y="6224"/>
                  <a:pt x="8855" y="6300"/>
                </a:cubicBezTo>
                <a:cubicBezTo>
                  <a:pt x="8964" y="6477"/>
                  <a:pt x="9216" y="6569"/>
                  <a:pt x="9351" y="6772"/>
                </a:cubicBezTo>
                <a:cubicBezTo>
                  <a:pt x="9108" y="6922"/>
                  <a:pt x="8875" y="7035"/>
                  <a:pt x="8806" y="6722"/>
                </a:cubicBezTo>
              </a:path>
              <a:path w="4293" h="1191">
                <a:moveTo>
                  <a:pt x="9872" y="6499"/>
                </a:moveTo>
                <a:cubicBezTo>
                  <a:pt x="9622" y="6551"/>
                  <a:pt x="9506" y="6608"/>
                  <a:pt x="9550" y="6871"/>
                </a:cubicBezTo>
                <a:cubicBezTo>
                  <a:pt x="9733" y="6825"/>
                  <a:pt x="9796" y="6812"/>
                  <a:pt x="9823" y="6598"/>
                </a:cubicBezTo>
                <a:cubicBezTo>
                  <a:pt x="9801" y="6786"/>
                  <a:pt x="9865" y="6976"/>
                  <a:pt x="10120" y="6846"/>
                </a:cubicBezTo>
                <a:cubicBezTo>
                  <a:pt x="10178" y="6796"/>
                  <a:pt x="10236" y="6747"/>
                  <a:pt x="10294" y="6697"/>
                </a:cubicBezTo>
              </a:path>
              <a:path w="4293" h="1191">
                <a:moveTo>
                  <a:pt x="10344" y="6548"/>
                </a:moveTo>
                <a:cubicBezTo>
                  <a:pt x="10350" y="6634"/>
                  <a:pt x="10347" y="6923"/>
                  <a:pt x="10517" y="6896"/>
                </a:cubicBezTo>
                <a:cubicBezTo>
                  <a:pt x="10736" y="6862"/>
                  <a:pt x="10716" y="6605"/>
                  <a:pt x="10716" y="6449"/>
                </a:cubicBezTo>
                <a:cubicBezTo>
                  <a:pt x="10716" y="6407"/>
                  <a:pt x="10716" y="6416"/>
                  <a:pt x="10716" y="6499"/>
                </a:cubicBezTo>
              </a:path>
              <a:path w="4293" h="1191">
                <a:moveTo>
                  <a:pt x="10939" y="6573"/>
                </a:moveTo>
                <a:cubicBezTo>
                  <a:pt x="10949" y="6668"/>
                  <a:pt x="10957" y="6755"/>
                  <a:pt x="10988" y="6772"/>
                </a:cubicBezTo>
              </a:path>
              <a:path w="4293" h="1191">
                <a:moveTo>
                  <a:pt x="10964" y="6127"/>
                </a:moveTo>
                <a:cubicBezTo>
                  <a:pt x="10980" y="6127"/>
                  <a:pt x="10997" y="6127"/>
                  <a:pt x="11013" y="6127"/>
                </a:cubicBezTo>
              </a:path>
              <a:path w="4293" h="1191">
                <a:moveTo>
                  <a:pt x="11013" y="6127"/>
                </a:moveTo>
                <a:lnTo>
                  <a:pt x="11013" y="6127"/>
                </a:lnTo>
              </a:path>
              <a:path w="4293" h="1191">
                <a:moveTo>
                  <a:pt x="11286" y="6648"/>
                </a:moveTo>
                <a:cubicBezTo>
                  <a:pt x="11322" y="6738"/>
                  <a:pt x="11339" y="6743"/>
                  <a:pt x="11336" y="6796"/>
                </a:cubicBezTo>
                <a:cubicBezTo>
                  <a:pt x="11336" y="6609"/>
                  <a:pt x="11365" y="6530"/>
                  <a:pt x="11460" y="6375"/>
                </a:cubicBezTo>
                <a:cubicBezTo>
                  <a:pt x="11591" y="6473"/>
                  <a:pt x="11652" y="6810"/>
                  <a:pt x="11708" y="6846"/>
                </a:cubicBezTo>
                <a:cubicBezTo>
                  <a:pt x="11741" y="6838"/>
                  <a:pt x="11774" y="6829"/>
                  <a:pt x="11807" y="6821"/>
                </a:cubicBezTo>
              </a:path>
              <a:path w="4293" h="1191">
                <a:moveTo>
                  <a:pt x="11956" y="6424"/>
                </a:moveTo>
                <a:cubicBezTo>
                  <a:pt x="11891" y="6516"/>
                  <a:pt x="11722" y="7042"/>
                  <a:pt x="11981" y="6747"/>
                </a:cubicBezTo>
                <a:cubicBezTo>
                  <a:pt x="12014" y="6689"/>
                  <a:pt x="12047" y="6631"/>
                  <a:pt x="12080" y="6573"/>
                </a:cubicBezTo>
                <a:cubicBezTo>
                  <a:pt x="12080" y="6548"/>
                  <a:pt x="12080" y="6524"/>
                  <a:pt x="12080" y="6499"/>
                </a:cubicBezTo>
                <a:cubicBezTo>
                  <a:pt x="12107" y="6684"/>
                  <a:pt x="12220" y="6933"/>
                  <a:pt x="12179" y="7119"/>
                </a:cubicBezTo>
                <a:cubicBezTo>
                  <a:pt x="12108" y="7443"/>
                  <a:pt x="11772" y="7286"/>
                  <a:pt x="11609" y="7193"/>
                </a:cubicBezTo>
              </a:path>
              <a:path w="4293" h="1191">
                <a:moveTo>
                  <a:pt x="12675" y="6325"/>
                </a:moveTo>
                <a:cubicBezTo>
                  <a:pt x="12617" y="6364"/>
                  <a:pt x="12557" y="6398"/>
                  <a:pt x="12526" y="6449"/>
                </a:cubicBezTo>
                <a:cubicBezTo>
                  <a:pt x="12650" y="6482"/>
                  <a:pt x="12760" y="6517"/>
                  <a:pt x="12874" y="6573"/>
                </a:cubicBezTo>
                <a:cubicBezTo>
                  <a:pt x="12746" y="6744"/>
                  <a:pt x="12722" y="6697"/>
                  <a:pt x="12502" y="6697"/>
                </a:cubicBezTo>
              </a:path>
              <a:path w="4293" h="1191">
                <a:moveTo>
                  <a:pt x="8582" y="7094"/>
                </a:moveTo>
                <a:cubicBezTo>
                  <a:pt x="9241" y="7210"/>
                  <a:pt x="9922" y="7174"/>
                  <a:pt x="10592" y="7193"/>
                </a:cubicBezTo>
                <a:cubicBezTo>
                  <a:pt x="11329" y="7214"/>
                  <a:pt x="12065" y="7233"/>
                  <a:pt x="12799" y="7293"/>
                </a:cubicBezTo>
                <a:cubicBezTo>
                  <a:pt x="12807" y="7293"/>
                  <a:pt x="12816" y="7293"/>
                  <a:pt x="12824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5960" y="2652840"/>
            <a:ext cx="1403280" cy="79200"/>
          </a:xfrm>
          <a:custGeom>
            <a:avLst/>
            <a:gdLst/>
            <a:ahLst/>
            <a:rect l="l" t="t" r="r" b="b"/>
            <a:pathLst>
              <a:path w="3895" h="224">
                <a:moveTo>
                  <a:pt x="1712" y="7392"/>
                </a:moveTo>
                <a:cubicBezTo>
                  <a:pt x="1778" y="7370"/>
                  <a:pt x="1854" y="7386"/>
                  <a:pt x="1960" y="7392"/>
                </a:cubicBezTo>
                <a:cubicBezTo>
                  <a:pt x="2203" y="7406"/>
                  <a:pt x="2438" y="7430"/>
                  <a:pt x="2679" y="7466"/>
                </a:cubicBezTo>
                <a:cubicBezTo>
                  <a:pt x="2926" y="7503"/>
                  <a:pt x="3173" y="7560"/>
                  <a:pt x="3423" y="7565"/>
                </a:cubicBezTo>
                <a:cubicBezTo>
                  <a:pt x="3566" y="7568"/>
                  <a:pt x="3700" y="7590"/>
                  <a:pt x="3845" y="7590"/>
                </a:cubicBezTo>
                <a:cubicBezTo>
                  <a:pt x="4317" y="7590"/>
                  <a:pt x="4789" y="7595"/>
                  <a:pt x="5259" y="7565"/>
                </a:cubicBezTo>
                <a:cubicBezTo>
                  <a:pt x="5374" y="7558"/>
                  <a:pt x="5491" y="7565"/>
                  <a:pt x="5606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find the discou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Change the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er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iscount into a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ci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ultip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decimal times the original pri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gives you your dis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that you are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3400" y="22860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05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mart is having a sale.  All DVDs are on sale for 20% off. The original price of the new Harry Potter DVD is $15.  How much money will you save if you but it on sal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0920" y="2463840"/>
            <a:ext cx="831960" cy="36360"/>
          </a:xfrm>
          <a:custGeom>
            <a:avLst/>
            <a:gdLst/>
            <a:ahLst/>
            <a:rect l="l" t="t" r="r" b="b"/>
            <a:pathLst>
              <a:path w="2307" h="100">
                <a:moveTo>
                  <a:pt x="9699" y="6945"/>
                </a:moveTo>
                <a:cubicBezTo>
                  <a:pt x="9775" y="6918"/>
                  <a:pt x="9835" y="6912"/>
                  <a:pt x="9922" y="6896"/>
                </a:cubicBezTo>
                <a:cubicBezTo>
                  <a:pt x="10020" y="6878"/>
                  <a:pt x="10124" y="6890"/>
                  <a:pt x="10220" y="6871"/>
                </a:cubicBezTo>
                <a:cubicBezTo>
                  <a:pt x="10315" y="6853"/>
                  <a:pt x="10394" y="6846"/>
                  <a:pt x="10492" y="6846"/>
                </a:cubicBezTo>
                <a:cubicBezTo>
                  <a:pt x="10775" y="6846"/>
                  <a:pt x="11056" y="6849"/>
                  <a:pt x="11336" y="6871"/>
                </a:cubicBezTo>
                <a:cubicBezTo>
                  <a:pt x="11527" y="6886"/>
                  <a:pt x="11720" y="6868"/>
                  <a:pt x="11906" y="6846"/>
                </a:cubicBezTo>
                <a:cubicBezTo>
                  <a:pt x="11937" y="6842"/>
                  <a:pt x="11973" y="6846"/>
                  <a:pt x="12005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19160" y="2946240"/>
            <a:ext cx="885960" cy="36720"/>
          </a:xfrm>
          <a:custGeom>
            <a:avLst/>
            <a:gdLst/>
            <a:ahLst/>
            <a:rect l="l" t="t" r="r" b="b"/>
            <a:pathLst>
              <a:path w="2457" h="100">
                <a:moveTo>
                  <a:pt x="5333" y="8285"/>
                </a:moveTo>
                <a:cubicBezTo>
                  <a:pt x="5370" y="8260"/>
                  <a:pt x="5456" y="8219"/>
                  <a:pt x="5531" y="8210"/>
                </a:cubicBezTo>
                <a:cubicBezTo>
                  <a:pt x="5729" y="8187"/>
                  <a:pt x="5932" y="8222"/>
                  <a:pt x="6127" y="8235"/>
                </a:cubicBezTo>
                <a:cubicBezTo>
                  <a:pt x="6279" y="8245"/>
                  <a:pt x="6430" y="8233"/>
                  <a:pt x="6573" y="8210"/>
                </a:cubicBezTo>
                <a:cubicBezTo>
                  <a:pt x="6796" y="8175"/>
                  <a:pt x="7044" y="8208"/>
                  <a:pt x="7268" y="8186"/>
                </a:cubicBezTo>
                <a:cubicBezTo>
                  <a:pt x="7357" y="8177"/>
                  <a:pt x="7434" y="8197"/>
                  <a:pt x="7516" y="8210"/>
                </a:cubicBezTo>
                <a:cubicBezTo>
                  <a:pt x="7602" y="8223"/>
                  <a:pt x="7701" y="8210"/>
                  <a:pt x="7789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8840" y="5089680"/>
            <a:ext cx="179280" cy="27756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868" y="14312"/>
                </a:moveTo>
                <a:cubicBezTo>
                  <a:pt x="868" y="14284"/>
                  <a:pt x="969" y="14621"/>
                  <a:pt x="992" y="14684"/>
                </a:cubicBezTo>
                <a:cubicBezTo>
                  <a:pt x="1031" y="14793"/>
                  <a:pt x="1042" y="14805"/>
                  <a:pt x="1042" y="14908"/>
                </a:cubicBezTo>
              </a:path>
              <a:path w="497" h="770">
                <a:moveTo>
                  <a:pt x="744" y="14808"/>
                </a:moveTo>
                <a:cubicBezTo>
                  <a:pt x="798" y="14702"/>
                  <a:pt x="900" y="14618"/>
                  <a:pt x="992" y="14536"/>
                </a:cubicBezTo>
                <a:cubicBezTo>
                  <a:pt x="1022" y="14509"/>
                  <a:pt x="1033" y="14487"/>
                  <a:pt x="1042" y="14461"/>
                </a:cubicBezTo>
              </a:path>
              <a:path w="497" h="770">
                <a:moveTo>
                  <a:pt x="1017" y="14139"/>
                </a:moveTo>
                <a:cubicBezTo>
                  <a:pt x="965" y="14327"/>
                  <a:pt x="905" y="14517"/>
                  <a:pt x="868" y="14709"/>
                </a:cubicBezTo>
                <a:cubicBezTo>
                  <a:pt x="866" y="14720"/>
                  <a:pt x="868" y="14827"/>
                  <a:pt x="868" y="14759"/>
                </a:cubicBezTo>
              </a:path>
              <a:path w="497" h="770">
                <a:moveTo>
                  <a:pt x="744" y="14610"/>
                </a:moveTo>
                <a:cubicBezTo>
                  <a:pt x="677" y="14610"/>
                  <a:pt x="991" y="14684"/>
                  <a:pt x="992" y="14684"/>
                </a:cubicBezTo>
                <a:cubicBezTo>
                  <a:pt x="1116" y="14726"/>
                  <a:pt x="1141" y="14734"/>
                  <a:pt x="1215" y="147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41960" y="6037200"/>
            <a:ext cx="81000" cy="293760"/>
          </a:xfrm>
          <a:custGeom>
            <a:avLst/>
            <a:gdLst/>
            <a:ahLst/>
            <a:rect l="l" t="t" r="r" b="b"/>
            <a:pathLst>
              <a:path w="225" h="820">
                <a:moveTo>
                  <a:pt x="14585" y="16842"/>
                </a:moveTo>
                <a:cubicBezTo>
                  <a:pt x="14572" y="16805"/>
                  <a:pt x="14560" y="16821"/>
                  <a:pt x="14560" y="16768"/>
                </a:cubicBezTo>
                <a:cubicBezTo>
                  <a:pt x="14575" y="16890"/>
                  <a:pt x="14627" y="17018"/>
                  <a:pt x="14660" y="17140"/>
                </a:cubicBezTo>
                <a:cubicBezTo>
                  <a:pt x="14669" y="17174"/>
                  <a:pt x="14685" y="17287"/>
                  <a:pt x="14709" y="17214"/>
                </a:cubicBezTo>
              </a:path>
              <a:path w="225" h="820">
                <a:moveTo>
                  <a:pt x="14784" y="16793"/>
                </a:moveTo>
                <a:cubicBezTo>
                  <a:pt x="14733" y="16742"/>
                  <a:pt x="14689" y="17091"/>
                  <a:pt x="14684" y="17115"/>
                </a:cubicBezTo>
                <a:cubicBezTo>
                  <a:pt x="14678" y="17143"/>
                  <a:pt x="14555" y="17541"/>
                  <a:pt x="14585" y="17587"/>
                </a:cubicBezTo>
                <a:cubicBezTo>
                  <a:pt x="14610" y="17587"/>
                  <a:pt x="14618" y="17587"/>
                  <a:pt x="14610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46200" y="6269040"/>
            <a:ext cx="777960" cy="268200"/>
          </a:xfrm>
          <a:custGeom>
            <a:avLst/>
            <a:gdLst/>
            <a:ahLst/>
            <a:rect l="l" t="t" r="r" b="b"/>
            <a:pathLst>
              <a:path w="2159" h="745">
                <a:moveTo>
                  <a:pt x="7020" y="17487"/>
                </a:moveTo>
                <a:cubicBezTo>
                  <a:pt x="7020" y="17479"/>
                  <a:pt x="7020" y="17470"/>
                  <a:pt x="7020" y="17462"/>
                </a:cubicBezTo>
              </a:path>
              <a:path w="2159" h="745">
                <a:moveTo>
                  <a:pt x="7020" y="17438"/>
                </a:moveTo>
                <a:lnTo>
                  <a:pt x="7020" y="17438"/>
                </a:lnTo>
              </a:path>
              <a:path w="2159" h="745">
                <a:moveTo>
                  <a:pt x="7020" y="17438"/>
                </a:moveTo>
                <a:lnTo>
                  <a:pt x="7020" y="17438"/>
                </a:lnTo>
              </a:path>
              <a:path w="2159" h="745">
                <a:moveTo>
                  <a:pt x="6995" y="17438"/>
                </a:moveTo>
                <a:cubicBezTo>
                  <a:pt x="6987" y="17438"/>
                  <a:pt x="6978" y="17438"/>
                  <a:pt x="6970" y="17438"/>
                </a:cubicBezTo>
              </a:path>
              <a:path w="2159" h="745">
                <a:moveTo>
                  <a:pt x="6970" y="17413"/>
                </a:moveTo>
                <a:lnTo>
                  <a:pt x="6970" y="17413"/>
                </a:lnTo>
              </a:path>
              <a:path w="2159" h="745">
                <a:moveTo>
                  <a:pt x="6970" y="17438"/>
                </a:moveTo>
                <a:lnTo>
                  <a:pt x="6970" y="17438"/>
                </a:lnTo>
              </a:path>
              <a:path w="2159" h="745">
                <a:moveTo>
                  <a:pt x="6945" y="17487"/>
                </a:moveTo>
                <a:cubicBezTo>
                  <a:pt x="6901" y="17548"/>
                  <a:pt x="6905" y="17518"/>
                  <a:pt x="6945" y="17487"/>
                </a:cubicBezTo>
                <a:cubicBezTo>
                  <a:pt x="7004" y="17441"/>
                  <a:pt x="7023" y="17449"/>
                  <a:pt x="7069" y="17413"/>
                </a:cubicBezTo>
                <a:cubicBezTo>
                  <a:pt x="7198" y="17592"/>
                  <a:pt x="7150" y="17721"/>
                  <a:pt x="7045" y="17909"/>
                </a:cubicBezTo>
                <a:cubicBezTo>
                  <a:pt x="6973" y="18038"/>
                  <a:pt x="6917" y="18117"/>
                  <a:pt x="6796" y="18157"/>
                </a:cubicBezTo>
                <a:cubicBezTo>
                  <a:pt x="6809" y="18029"/>
                  <a:pt x="6809" y="17836"/>
                  <a:pt x="6995" y="17835"/>
                </a:cubicBezTo>
                <a:cubicBezTo>
                  <a:pt x="7097" y="17835"/>
                  <a:pt x="7172" y="17959"/>
                  <a:pt x="7218" y="18033"/>
                </a:cubicBezTo>
              </a:path>
              <a:path w="2159" h="745">
                <a:moveTo>
                  <a:pt x="7615" y="17462"/>
                </a:moveTo>
                <a:cubicBezTo>
                  <a:pt x="7462" y="17652"/>
                  <a:pt x="7382" y="17820"/>
                  <a:pt x="7342" y="18058"/>
                </a:cubicBezTo>
                <a:cubicBezTo>
                  <a:pt x="7531" y="18024"/>
                  <a:pt x="7848" y="17933"/>
                  <a:pt x="7789" y="17661"/>
                </a:cubicBezTo>
                <a:cubicBezTo>
                  <a:pt x="7763" y="17540"/>
                  <a:pt x="7633" y="17529"/>
                  <a:pt x="7541" y="17512"/>
                </a:cubicBezTo>
              </a:path>
              <a:path w="2159" h="745">
                <a:moveTo>
                  <a:pt x="8285" y="17438"/>
                </a:moveTo>
                <a:cubicBezTo>
                  <a:pt x="8167" y="17511"/>
                  <a:pt x="8041" y="17572"/>
                  <a:pt x="8062" y="17711"/>
                </a:cubicBezTo>
                <a:cubicBezTo>
                  <a:pt x="8223" y="17657"/>
                  <a:pt x="8249" y="17643"/>
                  <a:pt x="8260" y="17462"/>
                </a:cubicBezTo>
                <a:cubicBezTo>
                  <a:pt x="8260" y="17454"/>
                  <a:pt x="8260" y="17446"/>
                  <a:pt x="8260" y="17438"/>
                </a:cubicBezTo>
                <a:cubicBezTo>
                  <a:pt x="8485" y="17530"/>
                  <a:pt x="8569" y="17605"/>
                  <a:pt x="8483" y="17859"/>
                </a:cubicBezTo>
                <a:cubicBezTo>
                  <a:pt x="8415" y="17995"/>
                  <a:pt x="8399" y="18034"/>
                  <a:pt x="8334" y="18107"/>
                </a:cubicBezTo>
              </a:path>
              <a:path w="2159" h="745">
                <a:moveTo>
                  <a:pt x="8731" y="17909"/>
                </a:moveTo>
                <a:cubicBezTo>
                  <a:pt x="8711" y="18010"/>
                  <a:pt x="8692" y="18030"/>
                  <a:pt x="8731" y="18083"/>
                </a:cubicBezTo>
                <a:cubicBezTo>
                  <a:pt x="8827" y="18063"/>
                  <a:pt x="9106" y="17967"/>
                  <a:pt x="8880" y="17859"/>
                </a:cubicBezTo>
                <a:cubicBezTo>
                  <a:pt x="8847" y="17851"/>
                  <a:pt x="8814" y="17843"/>
                  <a:pt x="8781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27280" y="6232680"/>
            <a:ext cx="893880" cy="260280"/>
          </a:xfrm>
          <a:custGeom>
            <a:avLst/>
            <a:gdLst/>
            <a:ahLst/>
            <a:rect l="l" t="t" r="r" b="b"/>
            <a:pathLst>
              <a:path w="2481" h="720">
                <a:moveTo>
                  <a:pt x="10120" y="17661"/>
                </a:moveTo>
                <a:cubicBezTo>
                  <a:pt x="9955" y="17611"/>
                  <a:pt x="9818" y="17664"/>
                  <a:pt x="9798" y="17859"/>
                </a:cubicBezTo>
                <a:cubicBezTo>
                  <a:pt x="9806" y="17892"/>
                  <a:pt x="9815" y="17926"/>
                  <a:pt x="9823" y="17959"/>
                </a:cubicBezTo>
                <a:cubicBezTo>
                  <a:pt x="9987" y="18000"/>
                  <a:pt x="10127" y="17976"/>
                  <a:pt x="10120" y="17760"/>
                </a:cubicBezTo>
                <a:cubicBezTo>
                  <a:pt x="10096" y="17711"/>
                  <a:pt x="10087" y="17694"/>
                  <a:pt x="10046" y="17686"/>
                </a:cubicBezTo>
              </a:path>
              <a:path w="2481" h="720">
                <a:moveTo>
                  <a:pt x="10641" y="17338"/>
                </a:moveTo>
                <a:cubicBezTo>
                  <a:pt x="10468" y="17357"/>
                  <a:pt x="10416" y="17438"/>
                  <a:pt x="10393" y="17611"/>
                </a:cubicBezTo>
                <a:cubicBezTo>
                  <a:pt x="10377" y="17729"/>
                  <a:pt x="10470" y="17875"/>
                  <a:pt x="10368" y="17909"/>
                </a:cubicBezTo>
              </a:path>
              <a:path w="2481" h="720">
                <a:moveTo>
                  <a:pt x="10468" y="17611"/>
                </a:moveTo>
                <a:cubicBezTo>
                  <a:pt x="10708" y="17611"/>
                  <a:pt x="10783" y="17610"/>
                  <a:pt x="10939" y="17636"/>
                </a:cubicBezTo>
              </a:path>
              <a:path w="2481" h="720">
                <a:moveTo>
                  <a:pt x="11361" y="17487"/>
                </a:moveTo>
                <a:cubicBezTo>
                  <a:pt x="11378" y="17662"/>
                  <a:pt x="11385" y="17831"/>
                  <a:pt x="11385" y="18008"/>
                </a:cubicBezTo>
                <a:cubicBezTo>
                  <a:pt x="11385" y="18062"/>
                  <a:pt x="11398" y="18044"/>
                  <a:pt x="11435" y="17934"/>
                </a:cubicBezTo>
              </a:path>
              <a:path w="2481" h="720">
                <a:moveTo>
                  <a:pt x="11981" y="17512"/>
                </a:moveTo>
                <a:cubicBezTo>
                  <a:pt x="11891" y="17444"/>
                  <a:pt x="11774" y="17546"/>
                  <a:pt x="11683" y="17587"/>
                </a:cubicBezTo>
                <a:cubicBezTo>
                  <a:pt x="11703" y="17646"/>
                  <a:pt x="11935" y="17646"/>
                  <a:pt x="12005" y="17686"/>
                </a:cubicBezTo>
                <a:cubicBezTo>
                  <a:pt x="12030" y="17711"/>
                  <a:pt x="12055" y="17735"/>
                  <a:pt x="12080" y="17760"/>
                </a:cubicBezTo>
                <a:cubicBezTo>
                  <a:pt x="12044" y="17894"/>
                  <a:pt x="11906" y="18041"/>
                  <a:pt x="11733" y="17909"/>
                </a:cubicBezTo>
                <a:cubicBezTo>
                  <a:pt x="11716" y="17876"/>
                  <a:pt x="11700" y="17843"/>
                  <a:pt x="11683" y="17810"/>
                </a:cubicBezTo>
              </a:path>
              <a:path w="2481" h="720">
                <a:moveTo>
                  <a:pt x="12105" y="17363"/>
                </a:moveTo>
                <a:cubicBezTo>
                  <a:pt x="12204" y="17343"/>
                  <a:pt x="12219" y="17335"/>
                  <a:pt x="12278" y="17338"/>
                </a:cubicBezTo>
              </a:path>
              <a:path w="2481" h="720">
                <a:moveTo>
                  <a:pt x="11137" y="17314"/>
                </a:moveTo>
                <a:cubicBezTo>
                  <a:pt x="11092" y="17381"/>
                  <a:pt x="10983" y="17432"/>
                  <a:pt x="10939" y="17487"/>
                </a:cubicBezTo>
                <a:cubicBezTo>
                  <a:pt x="10962" y="17492"/>
                  <a:pt x="11120" y="17546"/>
                  <a:pt x="11038" y="17611"/>
                </a:cubicBezTo>
                <a:cubicBezTo>
                  <a:pt x="10930" y="17697"/>
                  <a:pt x="10864" y="17625"/>
                  <a:pt x="10815" y="17562"/>
                </a:cubicBezTo>
              </a:path>
              <a:path w="2481" h="720">
                <a:moveTo>
                  <a:pt x="11013" y="17338"/>
                </a:moveTo>
                <a:cubicBezTo>
                  <a:pt x="11009" y="17390"/>
                  <a:pt x="11018" y="17618"/>
                  <a:pt x="10964" y="17636"/>
                </a:cubicBezTo>
                <a:cubicBezTo>
                  <a:pt x="10964" y="17628"/>
                  <a:pt x="10964" y="17619"/>
                  <a:pt x="10964" y="17611"/>
                </a:cubicBezTo>
              </a:path>
              <a:path w="2481" h="720">
                <a:moveTo>
                  <a:pt x="11063" y="17413"/>
                </a:moveTo>
                <a:cubicBezTo>
                  <a:pt x="11057" y="17506"/>
                  <a:pt x="11059" y="17556"/>
                  <a:pt x="11013" y="17636"/>
                </a:cubicBezTo>
              </a:path>
              <a:path w="2481" h="720">
                <a:moveTo>
                  <a:pt x="11013" y="17636"/>
                </a:moveTo>
                <a:lnTo>
                  <a:pt x="11013" y="1763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6200" y="6599160"/>
            <a:ext cx="393840" cy="160560"/>
          </a:xfrm>
          <a:custGeom>
            <a:avLst/>
            <a:gdLst/>
            <a:ahLst/>
            <a:rect l="l" t="t" r="r" b="b"/>
            <a:pathLst>
              <a:path w="1093" h="447">
                <a:moveTo>
                  <a:pt x="6846" y="18604"/>
                </a:moveTo>
                <a:cubicBezTo>
                  <a:pt x="6806" y="18630"/>
                  <a:pt x="6744" y="18687"/>
                  <a:pt x="6846" y="18604"/>
                </a:cubicBezTo>
              </a:path>
              <a:path w="1093" h="447">
                <a:moveTo>
                  <a:pt x="7193" y="18355"/>
                </a:moveTo>
                <a:cubicBezTo>
                  <a:pt x="7227" y="18389"/>
                  <a:pt x="7375" y="18352"/>
                  <a:pt x="7342" y="18529"/>
                </a:cubicBezTo>
                <a:cubicBezTo>
                  <a:pt x="7323" y="18627"/>
                  <a:pt x="7134" y="18877"/>
                  <a:pt x="7045" y="18728"/>
                </a:cubicBezTo>
                <a:cubicBezTo>
                  <a:pt x="7037" y="18703"/>
                  <a:pt x="7028" y="18678"/>
                  <a:pt x="7020" y="18653"/>
                </a:cubicBezTo>
                <a:cubicBezTo>
                  <a:pt x="7130" y="18590"/>
                  <a:pt x="7221" y="18607"/>
                  <a:pt x="7317" y="18703"/>
                </a:cubicBezTo>
                <a:cubicBezTo>
                  <a:pt x="7383" y="18769"/>
                  <a:pt x="7290" y="18786"/>
                  <a:pt x="7392" y="18752"/>
                </a:cubicBezTo>
              </a:path>
              <a:path w="1093" h="447">
                <a:moveTo>
                  <a:pt x="7714" y="18331"/>
                </a:moveTo>
                <a:cubicBezTo>
                  <a:pt x="7579" y="18466"/>
                  <a:pt x="7529" y="18565"/>
                  <a:pt x="7541" y="18752"/>
                </a:cubicBezTo>
                <a:cubicBezTo>
                  <a:pt x="7717" y="18764"/>
                  <a:pt x="7905" y="18712"/>
                  <a:pt x="7888" y="18479"/>
                </a:cubicBezTo>
                <a:cubicBezTo>
                  <a:pt x="7879" y="18359"/>
                  <a:pt x="7797" y="18364"/>
                  <a:pt x="7714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71920" y="658980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9922" y="18380"/>
                </a:moveTo>
                <a:cubicBezTo>
                  <a:pt x="10036" y="18472"/>
                  <a:pt x="10138" y="18614"/>
                  <a:pt x="10220" y="18728"/>
                </a:cubicBezTo>
                <a:cubicBezTo>
                  <a:pt x="10220" y="18752"/>
                  <a:pt x="10220" y="18760"/>
                  <a:pt x="10244" y="18752"/>
                </a:cubicBezTo>
              </a:path>
              <a:path w="398" h="472">
                <a:moveTo>
                  <a:pt x="10319" y="18306"/>
                </a:moveTo>
                <a:cubicBezTo>
                  <a:pt x="10197" y="18445"/>
                  <a:pt x="10039" y="18592"/>
                  <a:pt x="9947" y="18752"/>
                </a:cubicBezTo>
                <a:cubicBezTo>
                  <a:pt x="9947" y="18777"/>
                  <a:pt x="9947" y="18785"/>
                  <a:pt x="9947" y="187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70240" y="6562800"/>
            <a:ext cx="258840" cy="189000"/>
          </a:xfrm>
          <a:custGeom>
            <a:avLst/>
            <a:gdLst/>
            <a:ahLst/>
            <a:rect l="l" t="t" r="r" b="b"/>
            <a:pathLst>
              <a:path w="720" h="522">
                <a:moveTo>
                  <a:pt x="11733" y="18306"/>
                </a:moveTo>
                <a:cubicBezTo>
                  <a:pt x="11659" y="18416"/>
                  <a:pt x="11622" y="18574"/>
                  <a:pt x="11584" y="18703"/>
                </a:cubicBezTo>
                <a:cubicBezTo>
                  <a:pt x="11584" y="18728"/>
                  <a:pt x="11584" y="18736"/>
                  <a:pt x="11584" y="18703"/>
                </a:cubicBezTo>
              </a:path>
              <a:path w="720" h="522">
                <a:moveTo>
                  <a:pt x="12278" y="18231"/>
                </a:moveTo>
                <a:cubicBezTo>
                  <a:pt x="12207" y="18249"/>
                  <a:pt x="12058" y="18263"/>
                  <a:pt x="12030" y="18306"/>
                </a:cubicBezTo>
                <a:cubicBezTo>
                  <a:pt x="11996" y="18357"/>
                  <a:pt x="11951" y="18405"/>
                  <a:pt x="11931" y="18455"/>
                </a:cubicBezTo>
                <a:cubicBezTo>
                  <a:pt x="12039" y="18455"/>
                  <a:pt x="12194" y="18444"/>
                  <a:pt x="12278" y="18529"/>
                </a:cubicBezTo>
                <a:cubicBezTo>
                  <a:pt x="12286" y="18554"/>
                  <a:pt x="12295" y="18579"/>
                  <a:pt x="12303" y="18604"/>
                </a:cubicBezTo>
                <a:cubicBezTo>
                  <a:pt x="12157" y="18761"/>
                  <a:pt x="12096" y="18763"/>
                  <a:pt x="11881" y="187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7280" y="6653160"/>
            <a:ext cx="177840" cy="81000"/>
          </a:xfrm>
          <a:custGeom>
            <a:avLst/>
            <a:gdLst/>
            <a:ahLst/>
            <a:rect l="l" t="t" r="r" b="b"/>
            <a:pathLst>
              <a:path w="497" h="225">
                <a:moveTo>
                  <a:pt x="13047" y="18479"/>
                </a:moveTo>
                <a:cubicBezTo>
                  <a:pt x="13184" y="18479"/>
                  <a:pt x="13310" y="18489"/>
                  <a:pt x="13444" y="18504"/>
                </a:cubicBezTo>
                <a:cubicBezTo>
                  <a:pt x="13502" y="18510"/>
                  <a:pt x="13526" y="18451"/>
                  <a:pt x="13543" y="18504"/>
                </a:cubicBezTo>
              </a:path>
              <a:path w="497" h="225">
                <a:moveTo>
                  <a:pt x="13122" y="18703"/>
                </a:moveTo>
                <a:cubicBezTo>
                  <a:pt x="13195" y="18703"/>
                  <a:pt x="13304" y="18697"/>
                  <a:pt x="13370" y="18678"/>
                </a:cubicBezTo>
                <a:cubicBezTo>
                  <a:pt x="13398" y="18650"/>
                  <a:pt x="13411" y="18641"/>
                  <a:pt x="13444" y="186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2040" y="6411960"/>
            <a:ext cx="581040" cy="322200"/>
          </a:xfrm>
          <a:custGeom>
            <a:avLst/>
            <a:gdLst/>
            <a:ahLst/>
            <a:rect l="l" t="t" r="r" b="b"/>
            <a:pathLst>
              <a:path w="1613" h="894">
                <a:moveTo>
                  <a:pt x="14436" y="17909"/>
                </a:moveTo>
                <a:cubicBezTo>
                  <a:pt x="14346" y="17943"/>
                  <a:pt x="14229" y="17975"/>
                  <a:pt x="14188" y="18058"/>
                </a:cubicBezTo>
                <a:cubicBezTo>
                  <a:pt x="14269" y="18111"/>
                  <a:pt x="14300" y="18130"/>
                  <a:pt x="14362" y="18157"/>
                </a:cubicBezTo>
                <a:cubicBezTo>
                  <a:pt x="14341" y="18241"/>
                  <a:pt x="14215" y="18441"/>
                  <a:pt x="14089" y="18306"/>
                </a:cubicBezTo>
                <a:cubicBezTo>
                  <a:pt x="14089" y="18281"/>
                  <a:pt x="14089" y="18256"/>
                  <a:pt x="14089" y="18231"/>
                </a:cubicBezTo>
              </a:path>
              <a:path w="1613" h="894">
                <a:moveTo>
                  <a:pt x="14263" y="17934"/>
                </a:moveTo>
                <a:cubicBezTo>
                  <a:pt x="14303" y="18098"/>
                  <a:pt x="14333" y="18255"/>
                  <a:pt x="14312" y="18430"/>
                </a:cubicBezTo>
                <a:cubicBezTo>
                  <a:pt x="14292" y="18490"/>
                  <a:pt x="14274" y="18525"/>
                  <a:pt x="14312" y="18479"/>
                </a:cubicBezTo>
              </a:path>
              <a:path w="1613" h="894">
                <a:moveTo>
                  <a:pt x="14660" y="18083"/>
                </a:moveTo>
                <a:cubicBezTo>
                  <a:pt x="14748" y="18114"/>
                  <a:pt x="14923" y="18185"/>
                  <a:pt x="14784" y="18306"/>
                </a:cubicBezTo>
                <a:cubicBezTo>
                  <a:pt x="14707" y="18344"/>
                  <a:pt x="14691" y="18342"/>
                  <a:pt x="14660" y="18380"/>
                </a:cubicBezTo>
                <a:cubicBezTo>
                  <a:pt x="14780" y="18360"/>
                  <a:pt x="14927" y="18348"/>
                  <a:pt x="14932" y="18529"/>
                </a:cubicBezTo>
                <a:cubicBezTo>
                  <a:pt x="14936" y="18681"/>
                  <a:pt x="14720" y="18738"/>
                  <a:pt x="14610" y="18703"/>
                </a:cubicBezTo>
                <a:cubicBezTo>
                  <a:pt x="14602" y="18695"/>
                  <a:pt x="14593" y="18686"/>
                  <a:pt x="14585" y="18678"/>
                </a:cubicBezTo>
              </a:path>
              <a:path w="1613" h="894">
                <a:moveTo>
                  <a:pt x="15156" y="17959"/>
                </a:moveTo>
                <a:cubicBezTo>
                  <a:pt x="15117" y="18057"/>
                  <a:pt x="15100" y="18070"/>
                  <a:pt x="15106" y="18132"/>
                </a:cubicBezTo>
                <a:cubicBezTo>
                  <a:pt x="15209" y="18076"/>
                  <a:pt x="15284" y="18019"/>
                  <a:pt x="15156" y="17959"/>
                </a:cubicBezTo>
                <a:cubicBezTo>
                  <a:pt x="15095" y="17930"/>
                  <a:pt x="15135" y="17965"/>
                  <a:pt x="15255" y="17909"/>
                </a:cubicBezTo>
              </a:path>
              <a:path w="1613" h="894">
                <a:moveTo>
                  <a:pt x="15404" y="17859"/>
                </a:moveTo>
                <a:cubicBezTo>
                  <a:pt x="15425" y="17887"/>
                  <a:pt x="15429" y="17947"/>
                  <a:pt x="15429" y="18008"/>
                </a:cubicBezTo>
                <a:cubicBezTo>
                  <a:pt x="15475" y="17998"/>
                  <a:pt x="15707" y="17893"/>
                  <a:pt x="15577" y="17810"/>
                </a:cubicBezTo>
                <a:cubicBezTo>
                  <a:pt x="15503" y="17848"/>
                  <a:pt x="15466" y="17876"/>
                  <a:pt x="15429" y="17934"/>
                </a:cubicBezTo>
              </a:path>
              <a:path w="1613" h="894">
                <a:moveTo>
                  <a:pt x="15230" y="18306"/>
                </a:moveTo>
                <a:cubicBezTo>
                  <a:pt x="15409" y="18281"/>
                  <a:pt x="15554" y="18240"/>
                  <a:pt x="15701" y="181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6840" y="2463840"/>
            <a:ext cx="1108080" cy="9360"/>
          </a:xfrm>
          <a:custGeom>
            <a:avLst/>
            <a:gdLst/>
            <a:ahLst/>
            <a:rect l="l" t="t" r="r" b="b"/>
            <a:pathLst>
              <a:path w="3077" h="26">
                <a:moveTo>
                  <a:pt x="19769" y="6871"/>
                </a:moveTo>
                <a:cubicBezTo>
                  <a:pt x="19800" y="6856"/>
                  <a:pt x="19801" y="6846"/>
                  <a:pt x="19869" y="6846"/>
                </a:cubicBezTo>
                <a:cubicBezTo>
                  <a:pt x="20185" y="6846"/>
                  <a:pt x="20497" y="6859"/>
                  <a:pt x="20811" y="6871"/>
                </a:cubicBezTo>
                <a:cubicBezTo>
                  <a:pt x="21077" y="6882"/>
                  <a:pt x="21341" y="6830"/>
                  <a:pt x="21605" y="6846"/>
                </a:cubicBezTo>
                <a:cubicBezTo>
                  <a:pt x="21813" y="6859"/>
                  <a:pt x="22015" y="6871"/>
                  <a:pt x="22225" y="6871"/>
                </a:cubicBezTo>
                <a:cubicBezTo>
                  <a:pt x="22432" y="6871"/>
                  <a:pt x="22638" y="6871"/>
                  <a:pt x="22845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e Pr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sale price is easy once you know the discount, or amount that you’re sav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Take the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iginal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iscou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your sale pri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3400" y="38088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920" y="3446640"/>
            <a:ext cx="3436920" cy="1955520"/>
          </a:xfrm>
          <a:custGeom>
            <a:avLst/>
            <a:gdLst/>
            <a:ahLst/>
            <a:rect l="l" t="t" r="r" b="b"/>
            <a:pathLst>
              <a:path w="9551" h="5433">
                <a:moveTo>
                  <a:pt x="8086" y="9748"/>
                </a:moveTo>
                <a:cubicBezTo>
                  <a:pt x="8108" y="9744"/>
                  <a:pt x="8223" y="9723"/>
                  <a:pt x="8285" y="9723"/>
                </a:cubicBezTo>
                <a:cubicBezTo>
                  <a:pt x="8554" y="9723"/>
                  <a:pt x="8868" y="9770"/>
                  <a:pt x="9128" y="9699"/>
                </a:cubicBezTo>
                <a:cubicBezTo>
                  <a:pt x="9231" y="9671"/>
                  <a:pt x="9318" y="9674"/>
                  <a:pt x="9426" y="9674"/>
                </a:cubicBezTo>
                <a:cubicBezTo>
                  <a:pt x="9562" y="9674"/>
                  <a:pt x="9687" y="9653"/>
                  <a:pt x="9823" y="9649"/>
                </a:cubicBezTo>
                <a:cubicBezTo>
                  <a:pt x="9966" y="9645"/>
                  <a:pt x="10103" y="9610"/>
                  <a:pt x="10244" y="9599"/>
                </a:cubicBezTo>
                <a:cubicBezTo>
                  <a:pt x="10362" y="9589"/>
                  <a:pt x="10472" y="9575"/>
                  <a:pt x="10592" y="9575"/>
                </a:cubicBezTo>
                <a:cubicBezTo>
                  <a:pt x="10998" y="9575"/>
                  <a:pt x="11404" y="9570"/>
                  <a:pt x="11807" y="9599"/>
                </a:cubicBezTo>
                <a:cubicBezTo>
                  <a:pt x="11905" y="9606"/>
                  <a:pt x="12006" y="9599"/>
                  <a:pt x="12105" y="9599"/>
                </a:cubicBezTo>
              </a:path>
              <a:path w="9551" h="5433">
                <a:moveTo>
                  <a:pt x="13767" y="9748"/>
                </a:moveTo>
                <a:cubicBezTo>
                  <a:pt x="14050" y="9748"/>
                  <a:pt x="14330" y="9759"/>
                  <a:pt x="14610" y="9773"/>
                </a:cubicBezTo>
                <a:cubicBezTo>
                  <a:pt x="14820" y="9784"/>
                  <a:pt x="15023" y="9761"/>
                  <a:pt x="15230" y="9748"/>
                </a:cubicBezTo>
                <a:cubicBezTo>
                  <a:pt x="15593" y="9726"/>
                  <a:pt x="15959" y="9744"/>
                  <a:pt x="16321" y="9723"/>
                </a:cubicBezTo>
                <a:cubicBezTo>
                  <a:pt x="16386" y="9719"/>
                  <a:pt x="16454" y="9723"/>
                  <a:pt x="16520" y="9723"/>
                </a:cubicBezTo>
              </a:path>
              <a:path w="9551" h="5433">
                <a:moveTo>
                  <a:pt x="8458" y="12898"/>
                </a:moveTo>
                <a:cubicBezTo>
                  <a:pt x="8323" y="12945"/>
                  <a:pt x="8388" y="13155"/>
                  <a:pt x="8359" y="13295"/>
                </a:cubicBezTo>
                <a:cubicBezTo>
                  <a:pt x="8321" y="13470"/>
                  <a:pt x="8321" y="13497"/>
                  <a:pt x="8285" y="13593"/>
                </a:cubicBezTo>
              </a:path>
              <a:path w="9551" h="5433">
                <a:moveTo>
                  <a:pt x="9004" y="12824"/>
                </a:moveTo>
                <a:cubicBezTo>
                  <a:pt x="8934" y="12831"/>
                  <a:pt x="8779" y="12836"/>
                  <a:pt x="8756" y="12898"/>
                </a:cubicBezTo>
                <a:cubicBezTo>
                  <a:pt x="8732" y="12961"/>
                  <a:pt x="8731" y="12990"/>
                  <a:pt x="8731" y="13047"/>
                </a:cubicBezTo>
                <a:cubicBezTo>
                  <a:pt x="8871" y="13047"/>
                  <a:pt x="9037" y="13014"/>
                  <a:pt x="9153" y="13122"/>
                </a:cubicBezTo>
                <a:cubicBezTo>
                  <a:pt x="9341" y="13298"/>
                  <a:pt x="9165" y="13492"/>
                  <a:pt x="8979" y="13519"/>
                </a:cubicBezTo>
                <a:cubicBezTo>
                  <a:pt x="8863" y="13519"/>
                  <a:pt x="8847" y="13519"/>
                  <a:pt x="8781" y="13519"/>
                </a:cubicBezTo>
              </a:path>
              <a:path w="9551" h="5433">
                <a:moveTo>
                  <a:pt x="6970" y="14312"/>
                </a:moveTo>
                <a:cubicBezTo>
                  <a:pt x="7065" y="14336"/>
                  <a:pt x="7138" y="14324"/>
                  <a:pt x="7243" y="14312"/>
                </a:cubicBezTo>
                <a:cubicBezTo>
                  <a:pt x="7284" y="14312"/>
                  <a:pt x="7292" y="14312"/>
                  <a:pt x="7317" y="14312"/>
                </a:cubicBezTo>
              </a:path>
              <a:path w="9551" h="5433">
                <a:moveTo>
                  <a:pt x="9079" y="13816"/>
                </a:moveTo>
                <a:cubicBezTo>
                  <a:pt x="8998" y="13834"/>
                  <a:pt x="8980" y="13849"/>
                  <a:pt x="8930" y="13915"/>
                </a:cubicBezTo>
                <a:cubicBezTo>
                  <a:pt x="8954" y="13897"/>
                  <a:pt x="9265" y="13719"/>
                  <a:pt x="9227" y="13866"/>
                </a:cubicBezTo>
                <a:cubicBezTo>
                  <a:pt x="9154" y="13989"/>
                  <a:pt x="9130" y="14029"/>
                  <a:pt x="9054" y="14089"/>
                </a:cubicBezTo>
                <a:cubicBezTo>
                  <a:pt x="9046" y="14106"/>
                  <a:pt x="9037" y="14122"/>
                  <a:pt x="9029" y="14139"/>
                </a:cubicBezTo>
                <a:cubicBezTo>
                  <a:pt x="9129" y="14012"/>
                  <a:pt x="9298" y="14075"/>
                  <a:pt x="9302" y="14263"/>
                </a:cubicBezTo>
                <a:cubicBezTo>
                  <a:pt x="9307" y="14519"/>
                  <a:pt x="8985" y="14498"/>
                  <a:pt x="8830" y="14486"/>
                </a:cubicBezTo>
                <a:cubicBezTo>
                  <a:pt x="8768" y="14481"/>
                  <a:pt x="8873" y="14508"/>
                  <a:pt x="8880" y="14511"/>
                </a:cubicBezTo>
              </a:path>
              <a:path w="9551" h="5433">
                <a:moveTo>
                  <a:pt x="7491" y="15007"/>
                </a:moveTo>
                <a:cubicBezTo>
                  <a:pt x="8102" y="14913"/>
                  <a:pt x="8711" y="14818"/>
                  <a:pt x="9327" y="14759"/>
                </a:cubicBezTo>
                <a:cubicBezTo>
                  <a:pt x="9514" y="14741"/>
                  <a:pt x="9687" y="14734"/>
                  <a:pt x="9872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78040" y="5581800"/>
            <a:ext cx="617760" cy="268200"/>
          </a:xfrm>
          <a:custGeom>
            <a:avLst/>
            <a:gdLst/>
            <a:ahLst/>
            <a:rect l="l" t="t" r="r" b="b"/>
            <a:pathLst>
              <a:path w="1713" h="745">
                <a:moveTo>
                  <a:pt x="8409" y="15627"/>
                </a:moveTo>
                <a:cubicBezTo>
                  <a:pt x="8409" y="15499"/>
                  <a:pt x="8316" y="15810"/>
                  <a:pt x="8260" y="15925"/>
                </a:cubicBezTo>
                <a:cubicBezTo>
                  <a:pt x="8200" y="16049"/>
                  <a:pt x="8011" y="16338"/>
                  <a:pt x="8086" y="16222"/>
                </a:cubicBezTo>
                <a:cubicBezTo>
                  <a:pt x="8127" y="16156"/>
                  <a:pt x="8169" y="16090"/>
                  <a:pt x="8210" y="16024"/>
                </a:cubicBezTo>
              </a:path>
              <a:path w="1713" h="745">
                <a:moveTo>
                  <a:pt x="8930" y="15553"/>
                </a:moveTo>
                <a:cubicBezTo>
                  <a:pt x="8858" y="15676"/>
                  <a:pt x="8889" y="15602"/>
                  <a:pt x="9004" y="15577"/>
                </a:cubicBezTo>
                <a:cubicBezTo>
                  <a:pt x="9029" y="15577"/>
                  <a:pt x="9054" y="15577"/>
                  <a:pt x="9079" y="15577"/>
                </a:cubicBezTo>
                <a:cubicBezTo>
                  <a:pt x="9189" y="15827"/>
                  <a:pt x="9077" y="15999"/>
                  <a:pt x="8806" y="16123"/>
                </a:cubicBezTo>
                <a:cubicBezTo>
                  <a:pt x="8756" y="16131"/>
                  <a:pt x="8707" y="16140"/>
                  <a:pt x="8657" y="16148"/>
                </a:cubicBezTo>
                <a:cubicBezTo>
                  <a:pt x="8622" y="15991"/>
                  <a:pt x="8788" y="15893"/>
                  <a:pt x="8954" y="15925"/>
                </a:cubicBezTo>
                <a:cubicBezTo>
                  <a:pt x="9108" y="15955"/>
                  <a:pt x="9148" y="16133"/>
                  <a:pt x="9029" y="16173"/>
                </a:cubicBezTo>
              </a:path>
              <a:path w="1713" h="745">
                <a:moveTo>
                  <a:pt x="7789" y="15528"/>
                </a:moveTo>
                <a:cubicBezTo>
                  <a:pt x="7698" y="15595"/>
                  <a:pt x="7675" y="15613"/>
                  <a:pt x="7615" y="15652"/>
                </a:cubicBezTo>
                <a:cubicBezTo>
                  <a:pt x="7644" y="15695"/>
                  <a:pt x="7802" y="15712"/>
                  <a:pt x="7789" y="15825"/>
                </a:cubicBezTo>
                <a:cubicBezTo>
                  <a:pt x="7762" y="16065"/>
                  <a:pt x="7509" y="15888"/>
                  <a:pt x="7441" y="15825"/>
                </a:cubicBezTo>
              </a:path>
              <a:path w="1713" h="745">
                <a:moveTo>
                  <a:pt x="7640" y="15503"/>
                </a:moveTo>
                <a:cubicBezTo>
                  <a:pt x="7671" y="15636"/>
                  <a:pt x="7632" y="15887"/>
                  <a:pt x="7689" y="15999"/>
                </a:cubicBezTo>
                <a:cubicBezTo>
                  <a:pt x="7697" y="15991"/>
                  <a:pt x="7706" y="15982"/>
                  <a:pt x="7714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54280" y="5589720"/>
            <a:ext cx="633600" cy="268200"/>
          </a:xfrm>
          <a:custGeom>
            <a:avLst/>
            <a:gdLst/>
            <a:ahLst/>
            <a:rect l="l" t="t" r="r" b="b"/>
            <a:pathLst>
              <a:path w="1762" h="745">
                <a:moveTo>
                  <a:pt x="10269" y="15900"/>
                </a:moveTo>
                <a:cubicBezTo>
                  <a:pt x="10295" y="15796"/>
                  <a:pt x="10177" y="15856"/>
                  <a:pt x="10071" y="15875"/>
                </a:cubicBezTo>
                <a:cubicBezTo>
                  <a:pt x="9980" y="15893"/>
                  <a:pt x="9939" y="15868"/>
                  <a:pt x="9947" y="15925"/>
                </a:cubicBezTo>
                <a:cubicBezTo>
                  <a:pt x="10045" y="15988"/>
                  <a:pt x="10132" y="16048"/>
                  <a:pt x="10220" y="16123"/>
                </a:cubicBezTo>
                <a:cubicBezTo>
                  <a:pt x="10158" y="16219"/>
                  <a:pt x="10009" y="16344"/>
                  <a:pt x="9872" y="16247"/>
                </a:cubicBezTo>
                <a:cubicBezTo>
                  <a:pt x="9872" y="16230"/>
                  <a:pt x="9872" y="16214"/>
                  <a:pt x="9872" y="16197"/>
                </a:cubicBezTo>
              </a:path>
              <a:path w="1762" h="745">
                <a:moveTo>
                  <a:pt x="10815" y="15801"/>
                </a:moveTo>
                <a:cubicBezTo>
                  <a:pt x="10739" y="15866"/>
                  <a:pt x="10516" y="16008"/>
                  <a:pt x="10592" y="16148"/>
                </a:cubicBezTo>
                <a:cubicBezTo>
                  <a:pt x="10669" y="16290"/>
                  <a:pt x="10826" y="15994"/>
                  <a:pt x="10840" y="15974"/>
                </a:cubicBezTo>
                <a:cubicBezTo>
                  <a:pt x="10800" y="15777"/>
                  <a:pt x="10783" y="16137"/>
                  <a:pt x="10914" y="16098"/>
                </a:cubicBezTo>
                <a:cubicBezTo>
                  <a:pt x="10947" y="16073"/>
                  <a:pt x="10980" y="16049"/>
                  <a:pt x="11013" y="16024"/>
                </a:cubicBezTo>
              </a:path>
              <a:path w="1762" h="745">
                <a:moveTo>
                  <a:pt x="11112" y="15528"/>
                </a:moveTo>
                <a:cubicBezTo>
                  <a:pt x="11150" y="15723"/>
                  <a:pt x="11179" y="15900"/>
                  <a:pt x="11187" y="16098"/>
                </a:cubicBezTo>
              </a:path>
              <a:path w="1762" h="745">
                <a:moveTo>
                  <a:pt x="11410" y="15850"/>
                </a:moveTo>
                <a:cubicBezTo>
                  <a:pt x="11518" y="15836"/>
                  <a:pt x="11590" y="15836"/>
                  <a:pt x="11633" y="15726"/>
                </a:cubicBezTo>
                <a:cubicBezTo>
                  <a:pt x="11492" y="15713"/>
                  <a:pt x="11325" y="15811"/>
                  <a:pt x="11385" y="15999"/>
                </a:cubicBezTo>
                <a:cubicBezTo>
                  <a:pt x="11470" y="16111"/>
                  <a:pt x="11512" y="16142"/>
                  <a:pt x="11633" y="160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38800" y="5500800"/>
            <a:ext cx="1697040" cy="420480"/>
          </a:xfrm>
          <a:custGeom>
            <a:avLst/>
            <a:gdLst/>
            <a:ahLst/>
            <a:rect l="l" t="t" r="r" b="b"/>
            <a:pathLst>
              <a:path w="4714" h="1167">
                <a:moveTo>
                  <a:pt x="12378" y="15850"/>
                </a:moveTo>
                <a:cubicBezTo>
                  <a:pt x="12385" y="16005"/>
                  <a:pt x="12474" y="16305"/>
                  <a:pt x="12378" y="16446"/>
                </a:cubicBezTo>
                <a:cubicBezTo>
                  <a:pt x="12361" y="16446"/>
                  <a:pt x="12345" y="16446"/>
                  <a:pt x="12328" y="16446"/>
                </a:cubicBezTo>
              </a:path>
              <a:path w="4714" h="1167">
                <a:moveTo>
                  <a:pt x="12502" y="15801"/>
                </a:moveTo>
                <a:cubicBezTo>
                  <a:pt x="12709" y="15954"/>
                  <a:pt x="12838" y="16101"/>
                  <a:pt x="12477" y="16148"/>
                </a:cubicBezTo>
                <a:cubicBezTo>
                  <a:pt x="12345" y="16148"/>
                  <a:pt x="12295" y="16165"/>
                  <a:pt x="12328" y="16049"/>
                </a:cubicBezTo>
              </a:path>
              <a:path w="4714" h="1167">
                <a:moveTo>
                  <a:pt x="12824" y="15925"/>
                </a:moveTo>
                <a:cubicBezTo>
                  <a:pt x="12824" y="15983"/>
                  <a:pt x="12824" y="15991"/>
                  <a:pt x="12824" y="16024"/>
                </a:cubicBezTo>
                <a:cubicBezTo>
                  <a:pt x="12864" y="15924"/>
                  <a:pt x="12904" y="15824"/>
                  <a:pt x="12948" y="15726"/>
                </a:cubicBezTo>
                <a:cubicBezTo>
                  <a:pt x="13015" y="15749"/>
                  <a:pt x="13033" y="15754"/>
                  <a:pt x="13072" y="15776"/>
                </a:cubicBezTo>
              </a:path>
              <a:path w="4714" h="1167">
                <a:moveTo>
                  <a:pt x="13221" y="15949"/>
                </a:moveTo>
                <a:cubicBezTo>
                  <a:pt x="13221" y="16025"/>
                  <a:pt x="13221" y="16051"/>
                  <a:pt x="13196" y="16098"/>
                </a:cubicBezTo>
              </a:path>
              <a:path w="4714" h="1167">
                <a:moveTo>
                  <a:pt x="13196" y="16098"/>
                </a:moveTo>
                <a:lnTo>
                  <a:pt x="13196" y="16098"/>
                </a:lnTo>
              </a:path>
              <a:path w="4714" h="1167">
                <a:moveTo>
                  <a:pt x="13196" y="15627"/>
                </a:moveTo>
                <a:cubicBezTo>
                  <a:pt x="13213" y="15644"/>
                  <a:pt x="13229" y="15660"/>
                  <a:pt x="13246" y="15677"/>
                </a:cubicBezTo>
              </a:path>
              <a:path w="4714" h="1167">
                <a:moveTo>
                  <a:pt x="13593" y="15776"/>
                </a:moveTo>
                <a:cubicBezTo>
                  <a:pt x="13527" y="15754"/>
                  <a:pt x="13378" y="15924"/>
                  <a:pt x="13444" y="16049"/>
                </a:cubicBezTo>
                <a:cubicBezTo>
                  <a:pt x="13538" y="16225"/>
                  <a:pt x="13779" y="15990"/>
                  <a:pt x="13841" y="15949"/>
                </a:cubicBezTo>
              </a:path>
              <a:path w="4714" h="1167">
                <a:moveTo>
                  <a:pt x="13940" y="15825"/>
                </a:moveTo>
                <a:cubicBezTo>
                  <a:pt x="14017" y="15806"/>
                  <a:pt x="14035" y="15814"/>
                  <a:pt x="14064" y="15776"/>
                </a:cubicBezTo>
                <a:cubicBezTo>
                  <a:pt x="13996" y="15808"/>
                  <a:pt x="13644" y="15995"/>
                  <a:pt x="13866" y="16098"/>
                </a:cubicBezTo>
                <a:cubicBezTo>
                  <a:pt x="14019" y="16169"/>
                  <a:pt x="14508" y="15891"/>
                  <a:pt x="14610" y="15850"/>
                </a:cubicBezTo>
              </a:path>
              <a:path w="4714" h="1167">
                <a:moveTo>
                  <a:pt x="15032" y="15429"/>
                </a:moveTo>
                <a:cubicBezTo>
                  <a:pt x="15000" y="15488"/>
                  <a:pt x="14529" y="16312"/>
                  <a:pt x="14932" y="16272"/>
                </a:cubicBezTo>
                <a:cubicBezTo>
                  <a:pt x="14990" y="16239"/>
                  <a:pt x="15048" y="16206"/>
                  <a:pt x="15106" y="16173"/>
                </a:cubicBezTo>
              </a:path>
              <a:path w="4714" h="1167">
                <a:moveTo>
                  <a:pt x="15528" y="15701"/>
                </a:moveTo>
                <a:cubicBezTo>
                  <a:pt x="15597" y="15816"/>
                  <a:pt x="15524" y="15646"/>
                  <a:pt x="15453" y="15677"/>
                </a:cubicBezTo>
                <a:cubicBezTo>
                  <a:pt x="15351" y="15722"/>
                  <a:pt x="15179" y="16092"/>
                  <a:pt x="15404" y="16073"/>
                </a:cubicBezTo>
                <a:cubicBezTo>
                  <a:pt x="15462" y="16048"/>
                  <a:pt x="15519" y="16024"/>
                  <a:pt x="15577" y="15999"/>
                </a:cubicBezTo>
              </a:path>
              <a:path w="4714" h="1167">
                <a:moveTo>
                  <a:pt x="15925" y="15701"/>
                </a:moveTo>
                <a:cubicBezTo>
                  <a:pt x="15792" y="15787"/>
                  <a:pt x="15742" y="15833"/>
                  <a:pt x="15677" y="15974"/>
                </a:cubicBezTo>
                <a:cubicBezTo>
                  <a:pt x="15774" y="16007"/>
                  <a:pt x="16088" y="15968"/>
                  <a:pt x="16024" y="15751"/>
                </a:cubicBezTo>
                <a:cubicBezTo>
                  <a:pt x="16004" y="15683"/>
                  <a:pt x="15866" y="15687"/>
                  <a:pt x="15925" y="15726"/>
                </a:cubicBezTo>
              </a:path>
              <a:path w="4714" h="1167">
                <a:moveTo>
                  <a:pt x="16222" y="15677"/>
                </a:moveTo>
                <a:cubicBezTo>
                  <a:pt x="16190" y="15804"/>
                  <a:pt x="16283" y="15813"/>
                  <a:pt x="16396" y="15875"/>
                </a:cubicBezTo>
                <a:cubicBezTo>
                  <a:pt x="16272" y="15952"/>
                  <a:pt x="16260" y="15931"/>
                  <a:pt x="16123" y="15925"/>
                </a:cubicBezTo>
              </a:path>
              <a:path w="4714" h="1167">
                <a:moveTo>
                  <a:pt x="16520" y="15503"/>
                </a:moveTo>
                <a:cubicBezTo>
                  <a:pt x="16523" y="15598"/>
                  <a:pt x="16567" y="15950"/>
                  <a:pt x="16520" y="15949"/>
                </a:cubicBezTo>
              </a:path>
              <a:path w="4714" h="1167">
                <a:moveTo>
                  <a:pt x="16346" y="15701"/>
                </a:moveTo>
                <a:cubicBezTo>
                  <a:pt x="16542" y="15728"/>
                  <a:pt x="16609" y="15718"/>
                  <a:pt x="16793" y="15652"/>
                </a:cubicBezTo>
              </a:path>
              <a:path w="4714" h="1167">
                <a:moveTo>
                  <a:pt x="16842" y="15280"/>
                </a:moveTo>
                <a:cubicBezTo>
                  <a:pt x="17103" y="15722"/>
                  <a:pt x="17052" y="15794"/>
                  <a:pt x="16669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one togeth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purchasing an Aeropostale sweatshirt, which is 30% off the original price of $6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Write 30% as a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Multiply 68 x .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are saving $20.40 (our discou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find the sale price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3400" y="22860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66000" y="2938320"/>
            <a:ext cx="749160" cy="579600"/>
          </a:xfrm>
          <a:custGeom>
            <a:avLst/>
            <a:gdLst/>
            <a:ahLst/>
            <a:rect l="l" t="t" r="r" b="b"/>
            <a:pathLst>
              <a:path w="2084" h="1613">
                <a:moveTo>
                  <a:pt x="19521" y="9004"/>
                </a:moveTo>
                <a:cubicBezTo>
                  <a:pt x="19615" y="9035"/>
                  <a:pt x="19431" y="9279"/>
                  <a:pt x="19422" y="9302"/>
                </a:cubicBezTo>
                <a:cubicBezTo>
                  <a:pt x="19337" y="9504"/>
                  <a:pt x="19343" y="9547"/>
                  <a:pt x="19447" y="9699"/>
                </a:cubicBezTo>
                <a:cubicBezTo>
                  <a:pt x="19656" y="9669"/>
                  <a:pt x="19738" y="9620"/>
                  <a:pt x="19869" y="9451"/>
                </a:cubicBezTo>
                <a:cubicBezTo>
                  <a:pt x="19725" y="9379"/>
                  <a:pt x="19609" y="9518"/>
                  <a:pt x="19546" y="9649"/>
                </a:cubicBezTo>
                <a:cubicBezTo>
                  <a:pt x="19524" y="9756"/>
                  <a:pt x="19499" y="9798"/>
                  <a:pt x="19596" y="9773"/>
                </a:cubicBezTo>
              </a:path>
              <a:path w="2084" h="1613">
                <a:moveTo>
                  <a:pt x="20389" y="8979"/>
                </a:moveTo>
                <a:cubicBezTo>
                  <a:pt x="20216" y="8971"/>
                  <a:pt x="20182" y="8976"/>
                  <a:pt x="20042" y="9079"/>
                </a:cubicBezTo>
                <a:cubicBezTo>
                  <a:pt x="20121" y="9200"/>
                  <a:pt x="20461" y="9407"/>
                  <a:pt x="20389" y="9575"/>
                </a:cubicBezTo>
                <a:cubicBezTo>
                  <a:pt x="20356" y="9600"/>
                  <a:pt x="20323" y="9624"/>
                  <a:pt x="20290" y="9649"/>
                </a:cubicBezTo>
                <a:cubicBezTo>
                  <a:pt x="20031" y="9469"/>
                  <a:pt x="20276" y="9337"/>
                  <a:pt x="20414" y="9128"/>
                </a:cubicBezTo>
                <a:cubicBezTo>
                  <a:pt x="20485" y="9021"/>
                  <a:pt x="20392" y="9028"/>
                  <a:pt x="20315" y="9004"/>
                </a:cubicBezTo>
              </a:path>
              <a:path w="2084" h="1613">
                <a:moveTo>
                  <a:pt x="20737" y="9550"/>
                </a:moveTo>
                <a:cubicBezTo>
                  <a:pt x="20717" y="9590"/>
                  <a:pt x="20708" y="9596"/>
                  <a:pt x="20712" y="9624"/>
                </a:cubicBezTo>
              </a:path>
              <a:path w="2084" h="1613">
                <a:moveTo>
                  <a:pt x="21183" y="9029"/>
                </a:moveTo>
                <a:cubicBezTo>
                  <a:pt x="21129" y="9047"/>
                  <a:pt x="21093" y="9185"/>
                  <a:pt x="21084" y="9252"/>
                </a:cubicBezTo>
                <a:cubicBezTo>
                  <a:pt x="21066" y="9382"/>
                  <a:pt x="21128" y="9460"/>
                  <a:pt x="21258" y="9401"/>
                </a:cubicBezTo>
                <a:cubicBezTo>
                  <a:pt x="21317" y="9374"/>
                  <a:pt x="21444" y="9195"/>
                  <a:pt x="21431" y="9128"/>
                </a:cubicBezTo>
                <a:cubicBezTo>
                  <a:pt x="21419" y="9068"/>
                  <a:pt x="21317" y="8981"/>
                  <a:pt x="21282" y="8954"/>
                </a:cubicBezTo>
                <a:cubicBezTo>
                  <a:pt x="21260" y="8932"/>
                  <a:pt x="21255" y="8924"/>
                  <a:pt x="21233" y="8930"/>
                </a:cubicBezTo>
              </a:path>
              <a:path w="2084" h="1613">
                <a:moveTo>
                  <a:pt x="20017" y="8806"/>
                </a:moveTo>
                <a:cubicBezTo>
                  <a:pt x="19990" y="8806"/>
                  <a:pt x="20043" y="8880"/>
                  <a:pt x="20092" y="8954"/>
                </a:cubicBezTo>
                <a:cubicBezTo>
                  <a:pt x="20218" y="9143"/>
                  <a:pt x="20417" y="9318"/>
                  <a:pt x="20513" y="9525"/>
                </a:cubicBezTo>
                <a:cubicBezTo>
                  <a:pt x="20513" y="9570"/>
                  <a:pt x="20509" y="9583"/>
                  <a:pt x="20538" y="9599"/>
                </a:cubicBezTo>
              </a:path>
              <a:path w="2084" h="1613">
                <a:moveTo>
                  <a:pt x="19968" y="8235"/>
                </a:moveTo>
                <a:cubicBezTo>
                  <a:pt x="20064" y="8211"/>
                  <a:pt x="20181" y="8173"/>
                  <a:pt x="20290" y="8161"/>
                </a:cubicBezTo>
                <a:cubicBezTo>
                  <a:pt x="20348" y="8161"/>
                  <a:pt x="20356" y="8161"/>
                  <a:pt x="20389" y="8161"/>
                </a:cubicBezTo>
                <a:cubicBezTo>
                  <a:pt x="20351" y="8320"/>
                  <a:pt x="20281" y="8470"/>
                  <a:pt x="20265" y="8632"/>
                </a:cubicBezTo>
              </a:path>
              <a:path w="2084" h="1613">
                <a:moveTo>
                  <a:pt x="20886" y="8905"/>
                </a:moveTo>
                <a:cubicBezTo>
                  <a:pt x="20814" y="8929"/>
                  <a:pt x="20900" y="9086"/>
                  <a:pt x="20910" y="9153"/>
                </a:cubicBezTo>
                <a:cubicBezTo>
                  <a:pt x="20910" y="9170"/>
                  <a:pt x="20910" y="9186"/>
                  <a:pt x="20910" y="92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1880" y="3633840"/>
            <a:ext cx="1482480" cy="438120"/>
          </a:xfrm>
          <a:custGeom>
            <a:avLst/>
            <a:gdLst/>
            <a:ahLst/>
            <a:rect l="l" t="t" r="r" b="b"/>
            <a:pathLst>
              <a:path w="4119" h="1216">
                <a:moveTo>
                  <a:pt x="18281" y="10691"/>
                </a:moveTo>
                <a:cubicBezTo>
                  <a:pt x="18394" y="10691"/>
                  <a:pt x="18494" y="10667"/>
                  <a:pt x="18604" y="10641"/>
                </a:cubicBezTo>
              </a:path>
              <a:path w="4119" h="1216">
                <a:moveTo>
                  <a:pt x="19745" y="10319"/>
                </a:moveTo>
                <a:cubicBezTo>
                  <a:pt x="19704" y="10339"/>
                  <a:pt x="19698" y="10348"/>
                  <a:pt x="19670" y="10344"/>
                </a:cubicBezTo>
                <a:cubicBezTo>
                  <a:pt x="19749" y="10324"/>
                  <a:pt x="19862" y="10259"/>
                  <a:pt x="19869" y="10443"/>
                </a:cubicBezTo>
                <a:cubicBezTo>
                  <a:pt x="19879" y="10717"/>
                  <a:pt x="19665" y="10839"/>
                  <a:pt x="19447" y="10840"/>
                </a:cubicBezTo>
                <a:cubicBezTo>
                  <a:pt x="19561" y="10640"/>
                  <a:pt x="19712" y="10665"/>
                  <a:pt x="19918" y="10790"/>
                </a:cubicBezTo>
                <a:cubicBezTo>
                  <a:pt x="19957" y="10829"/>
                  <a:pt x="19974" y="10830"/>
                  <a:pt x="19968" y="10864"/>
                </a:cubicBezTo>
              </a:path>
              <a:path w="4119" h="1216">
                <a:moveTo>
                  <a:pt x="20290" y="10344"/>
                </a:moveTo>
                <a:cubicBezTo>
                  <a:pt x="20130" y="10541"/>
                  <a:pt x="20059" y="10639"/>
                  <a:pt x="20141" y="10864"/>
                </a:cubicBezTo>
                <a:cubicBezTo>
                  <a:pt x="20374" y="10827"/>
                  <a:pt x="20647" y="10736"/>
                  <a:pt x="20439" y="10443"/>
                </a:cubicBezTo>
                <a:cubicBezTo>
                  <a:pt x="20343" y="10367"/>
                  <a:pt x="20338" y="10334"/>
                  <a:pt x="20265" y="10344"/>
                </a:cubicBezTo>
              </a:path>
              <a:path w="4119" h="1216">
                <a:moveTo>
                  <a:pt x="20811" y="10740"/>
                </a:moveTo>
                <a:cubicBezTo>
                  <a:pt x="20811" y="10787"/>
                  <a:pt x="20829" y="10783"/>
                  <a:pt x="20886" y="10716"/>
                </a:cubicBezTo>
              </a:path>
              <a:path w="4119" h="1216">
                <a:moveTo>
                  <a:pt x="21158" y="10294"/>
                </a:moveTo>
                <a:cubicBezTo>
                  <a:pt x="21120" y="10328"/>
                  <a:pt x="20970" y="10482"/>
                  <a:pt x="21109" y="10517"/>
                </a:cubicBezTo>
                <a:cubicBezTo>
                  <a:pt x="21271" y="10558"/>
                  <a:pt x="21331" y="10486"/>
                  <a:pt x="21431" y="10393"/>
                </a:cubicBezTo>
              </a:path>
              <a:path w="4119" h="1216">
                <a:moveTo>
                  <a:pt x="21382" y="10096"/>
                </a:moveTo>
                <a:cubicBezTo>
                  <a:pt x="21382" y="10319"/>
                  <a:pt x="21382" y="10542"/>
                  <a:pt x="21382" y="10765"/>
                </a:cubicBezTo>
              </a:path>
              <a:path w="4119" h="1216">
                <a:moveTo>
                  <a:pt x="18653" y="11311"/>
                </a:moveTo>
                <a:cubicBezTo>
                  <a:pt x="19446" y="11211"/>
                  <a:pt x="20238" y="11088"/>
                  <a:pt x="21034" y="11013"/>
                </a:cubicBezTo>
                <a:cubicBezTo>
                  <a:pt x="21479" y="10971"/>
                  <a:pt x="21928" y="10948"/>
                  <a:pt x="22374" y="10914"/>
                </a:cubicBezTo>
                <a:cubicBezTo>
                  <a:pt x="22382" y="10914"/>
                  <a:pt x="22391" y="10914"/>
                  <a:pt x="22399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4232160"/>
            <a:ext cx="108000" cy="152640"/>
          </a:xfrm>
          <a:custGeom>
            <a:avLst/>
            <a:gdLst/>
            <a:ahLst/>
            <a:rect l="l" t="t" r="r" b="b"/>
            <a:pathLst>
              <a:path w="299" h="423">
                <a:moveTo>
                  <a:pt x="19199" y="11807"/>
                </a:moveTo>
                <a:cubicBezTo>
                  <a:pt x="19085" y="11823"/>
                  <a:pt x="19041" y="11843"/>
                  <a:pt x="18976" y="11931"/>
                </a:cubicBezTo>
                <a:cubicBezTo>
                  <a:pt x="19056" y="11985"/>
                  <a:pt x="19087" y="12005"/>
                  <a:pt x="19149" y="12030"/>
                </a:cubicBezTo>
                <a:cubicBezTo>
                  <a:pt x="19115" y="12186"/>
                  <a:pt x="19046" y="12175"/>
                  <a:pt x="18901" y="12154"/>
                </a:cubicBezTo>
              </a:path>
              <a:path w="299" h="423">
                <a:moveTo>
                  <a:pt x="19000" y="11757"/>
                </a:moveTo>
                <a:cubicBezTo>
                  <a:pt x="19030" y="11862"/>
                  <a:pt x="19069" y="11971"/>
                  <a:pt x="19100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62840" y="4197240"/>
            <a:ext cx="117360" cy="276480"/>
          </a:xfrm>
          <a:custGeom>
            <a:avLst/>
            <a:gdLst/>
            <a:ahLst/>
            <a:rect l="l" t="t" r="r" b="b"/>
            <a:pathLst>
              <a:path w="323" h="770">
                <a:moveTo>
                  <a:pt x="19645" y="11733"/>
                </a:moveTo>
                <a:cubicBezTo>
                  <a:pt x="19702" y="11809"/>
                  <a:pt x="19645" y="11968"/>
                  <a:pt x="19621" y="12080"/>
                </a:cubicBezTo>
                <a:cubicBezTo>
                  <a:pt x="19722" y="12080"/>
                  <a:pt x="19794" y="12050"/>
                  <a:pt x="19893" y="12030"/>
                </a:cubicBezTo>
                <a:cubicBezTo>
                  <a:pt x="19901" y="12030"/>
                  <a:pt x="19910" y="12030"/>
                  <a:pt x="19918" y="12030"/>
                </a:cubicBezTo>
              </a:path>
              <a:path w="323" h="770">
                <a:moveTo>
                  <a:pt x="19893" y="11658"/>
                </a:moveTo>
                <a:cubicBezTo>
                  <a:pt x="19913" y="11816"/>
                  <a:pt x="19904" y="11970"/>
                  <a:pt x="19918" y="12129"/>
                </a:cubicBezTo>
                <a:cubicBezTo>
                  <a:pt x="19927" y="12229"/>
                  <a:pt x="19943" y="12527"/>
                  <a:pt x="19943" y="12427"/>
                </a:cubicBezTo>
                <a:cubicBezTo>
                  <a:pt x="19943" y="12419"/>
                  <a:pt x="19943" y="12410"/>
                  <a:pt x="19943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3760" y="4179960"/>
            <a:ext cx="88920" cy="241200"/>
          </a:xfrm>
          <a:custGeom>
            <a:avLst/>
            <a:gdLst/>
            <a:ahLst/>
            <a:rect l="l" t="t" r="r" b="b"/>
            <a:pathLst>
              <a:path w="249" h="670">
                <a:moveTo>
                  <a:pt x="20315" y="11658"/>
                </a:moveTo>
                <a:cubicBezTo>
                  <a:pt x="20315" y="11711"/>
                  <a:pt x="20322" y="11721"/>
                  <a:pt x="20340" y="11782"/>
                </a:cubicBezTo>
                <a:cubicBezTo>
                  <a:pt x="20298" y="11643"/>
                  <a:pt x="20335" y="11681"/>
                  <a:pt x="20464" y="11633"/>
                </a:cubicBezTo>
                <a:cubicBezTo>
                  <a:pt x="20514" y="11615"/>
                  <a:pt x="20515" y="11609"/>
                  <a:pt x="20563" y="11609"/>
                </a:cubicBezTo>
                <a:cubicBezTo>
                  <a:pt x="20563" y="11785"/>
                  <a:pt x="20549" y="11955"/>
                  <a:pt x="20538" y="12129"/>
                </a:cubicBezTo>
                <a:cubicBezTo>
                  <a:pt x="20535" y="12177"/>
                  <a:pt x="20538" y="12229"/>
                  <a:pt x="20538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35880" y="4357800"/>
            <a:ext cx="9360" cy="17280"/>
          </a:xfrm>
          <a:custGeom>
            <a:avLst/>
            <a:gdLst/>
            <a:ahLst/>
            <a:rect l="l" t="t" r="r" b="b"/>
            <a:pathLst>
              <a:path w="26" h="50">
                <a:moveTo>
                  <a:pt x="20960" y="12105"/>
                </a:moveTo>
                <a:cubicBezTo>
                  <a:pt x="20880" y="12131"/>
                  <a:pt x="20989" y="12175"/>
                  <a:pt x="20960" y="12105"/>
                </a:cubicBezTo>
                <a:cubicBezTo>
                  <a:pt x="20952" y="12105"/>
                  <a:pt x="20943" y="12105"/>
                  <a:pt x="20935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05800" y="4089240"/>
            <a:ext cx="162000" cy="250920"/>
          </a:xfrm>
          <a:custGeom>
            <a:avLst/>
            <a:gdLst/>
            <a:ahLst/>
            <a:rect l="l" t="t" r="r" b="b"/>
            <a:pathLst>
              <a:path w="448" h="695">
                <a:moveTo>
                  <a:pt x="21406" y="11361"/>
                </a:moveTo>
                <a:cubicBezTo>
                  <a:pt x="21492" y="11446"/>
                  <a:pt x="21441" y="11563"/>
                  <a:pt x="21431" y="11683"/>
                </a:cubicBezTo>
                <a:cubicBezTo>
                  <a:pt x="21424" y="11770"/>
                  <a:pt x="21374" y="11903"/>
                  <a:pt x="21431" y="11981"/>
                </a:cubicBezTo>
                <a:cubicBezTo>
                  <a:pt x="21511" y="12091"/>
                  <a:pt x="21600" y="12039"/>
                  <a:pt x="21704" y="12005"/>
                </a:cubicBezTo>
                <a:cubicBezTo>
                  <a:pt x="21793" y="11976"/>
                  <a:pt x="21808" y="11934"/>
                  <a:pt x="21853" y="11857"/>
                </a:cubicBezTo>
                <a:cubicBezTo>
                  <a:pt x="21826" y="11819"/>
                  <a:pt x="21769" y="11739"/>
                  <a:pt x="21704" y="11782"/>
                </a:cubicBezTo>
                <a:cubicBezTo>
                  <a:pt x="21639" y="11826"/>
                  <a:pt x="21577" y="11868"/>
                  <a:pt x="21605" y="11956"/>
                </a:cubicBezTo>
                <a:cubicBezTo>
                  <a:pt x="21613" y="11972"/>
                  <a:pt x="21622" y="11989"/>
                  <a:pt x="21630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18640" y="4116240"/>
            <a:ext cx="107640" cy="169920"/>
          </a:xfrm>
          <a:custGeom>
            <a:avLst/>
            <a:gdLst/>
            <a:ahLst/>
            <a:rect l="l" t="t" r="r" b="b"/>
            <a:pathLst>
              <a:path w="298" h="472">
                <a:moveTo>
                  <a:pt x="22374" y="11435"/>
                </a:moveTo>
                <a:cubicBezTo>
                  <a:pt x="22288" y="11589"/>
                  <a:pt x="22282" y="11711"/>
                  <a:pt x="22299" y="11881"/>
                </a:cubicBezTo>
                <a:cubicBezTo>
                  <a:pt x="22454" y="11893"/>
                  <a:pt x="22635" y="11822"/>
                  <a:pt x="22572" y="11609"/>
                </a:cubicBezTo>
                <a:cubicBezTo>
                  <a:pt x="22532" y="11475"/>
                  <a:pt x="22450" y="11509"/>
                  <a:pt x="22349" y="115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3352680"/>
            <a:ext cx="8007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Subtract the discount from the original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68.00 – $20.4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e Price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47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36840" y="960480"/>
            <a:ext cx="2468520" cy="2468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1840" y="22860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some on your own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ind the discount, and then calculate the final sale pric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) Target is selling the Apple iPod Touch at 15% off its original price. What is the sale price of the iPod that was originally priced at $199.0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5880" y="380880"/>
            <a:ext cx="74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find the percent of discount and the sale pr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5331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) You see a game that you want. It is originally priced at $20.00, but it is marked 24% off. What is the sale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) Original Price: $42.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: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) Original Price: $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: 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 Pr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3:13:00Z</dcterms:created>
  <dc:creator>Brian McGrath</dc:creator>
  <dc:description/>
  <dc:language>en-US</dc:language>
  <cp:lastModifiedBy>deanne elizabeth mcgrath</cp:lastModifiedBy>
  <dcterms:modified xsi:type="dcterms:W3CDTF">2011-03-21T15:20:59Z</dcterms:modified>
  <cp:revision>2</cp:revision>
  <dc:subject/>
  <dc:title>Warm - up:</dc:title>
</cp:coreProperties>
</file>